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77E-2A43-4AEA-A064-3D6143FE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556-143A-4794-B4C8-37057C77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615-C4B3-4458-A716-E8F52B4F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162-A9F5-4803-98B6-93D90E37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14E-ACED-4B43-AFED-85DEB7FD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F37-BA0A-44C8-81DB-555EF69E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B05-7A14-447E-9D04-C43B0A30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CC4-A9A9-420B-BE9F-58C1FBD3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AD6-2B4B-4D76-9E02-430E3A48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281-B8A9-4EFB-849C-668F63F2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B0B-B556-4575-AA51-64661EEA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82E-B9A2-4E74-A522-2C541131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d9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84E0-CEFD-45E3-8827-1AA8EB59A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Delineamento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916360" y="2060640"/>
            <a:ext cx="3200400" cy="2636280"/>
            <a:chOff x="2916360" y="2060640"/>
            <a:chExt cx="3200400" cy="2636280"/>
          </a:xfrm>
        </p:grpSpPr>
        <p:sp>
          <p:nvSpPr>
            <p:cNvPr id="43" name=""/>
            <p:cNvSpPr/>
            <p:nvPr/>
          </p:nvSpPr>
          <p:spPr>
            <a:xfrm>
              <a:off x="4177080" y="4268520"/>
              <a:ext cx="4251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16360" y="3203280"/>
              <a:ext cx="354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59560" y="3965400"/>
              <a:ext cx="4320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16400" y="2765160"/>
              <a:ext cx="1611360" cy="139212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416400" y="2133000"/>
              <a:ext cx="1025640" cy="6332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027760" y="2133000"/>
              <a:ext cx="1027080" cy="6332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5027760" y="3523680"/>
              <a:ext cx="1027080" cy="634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416400" y="3523680"/>
              <a:ext cx="1025640" cy="6346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42040" y="2133360"/>
              <a:ext cx="0" cy="13903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70480" y="354168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42040" y="2133360"/>
              <a:ext cx="16128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051960" y="2133360"/>
              <a:ext cx="2880" cy="1390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62400" y="407808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62400" y="268740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86600" y="207936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02560" y="206064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8000" y="345096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65840" y="405756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72200" y="3450960"/>
              <a:ext cx="14760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37400" y="271440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69160" y="4097160"/>
              <a:ext cx="1458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70880" y="3357360"/>
              <a:ext cx="1458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69160" y="2708280"/>
              <a:ext cx="145800" cy="1281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68880" y="335736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68920" y="233820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70840" y="2430360"/>
              <a:ext cx="145800" cy="1281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70920" y="3727440"/>
              <a:ext cx="145800" cy="1263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69000" y="3727440"/>
              <a:ext cx="146160" cy="126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68960" y="2801880"/>
              <a:ext cx="146160" cy="126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0680" y="3449520"/>
              <a:ext cx="14616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0960" y="2801880"/>
              <a:ext cx="145800" cy="1263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70600" y="206064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542200" y="2454120"/>
              <a:ext cx="1440" cy="1390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965760" y="2395440"/>
              <a:ext cx="1800" cy="1391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53040" y="2732040"/>
              <a:ext cx="1800" cy="1390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178600" y="2130120"/>
              <a:ext cx="1800" cy="13903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19760" y="381924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45280" y="288288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56400" y="2442960"/>
              <a:ext cx="161280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7120" y="343836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92920" y="2157120"/>
              <a:ext cx="1025280" cy="63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229280" y="3449520"/>
              <a:ext cx="1041480" cy="6933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429360" y="2885400"/>
              <a:ext cx="1025280" cy="633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429360" y="2885400"/>
              <a:ext cx="1025280" cy="633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992840" y="2874960"/>
              <a:ext cx="1025640" cy="63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68920" y="3127320"/>
              <a:ext cx="150840" cy="126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94360" y="2825640"/>
              <a:ext cx="150840" cy="1281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45440" y="3752640"/>
              <a:ext cx="14904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99080" y="2366640"/>
              <a:ext cx="1479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86440" y="338580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63000" y="309708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254840" y="2893320"/>
              <a:ext cx="915840" cy="579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70640" y="3090600"/>
              <a:ext cx="14616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9680" y="318276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5640" y="515772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d9ff"/>
                </a:solidFill>
                <a:latin typeface="Times New Roman"/>
              </a:rPr>
              <a:t>Juscelino Zemiacki</a:t>
            </a:r>
            <a:br>
              <a:rPr sz="2800"/>
            </a:br>
            <a:r>
              <a:rPr b="0" i="1" lang="pt-BR" sz="2800" spc="-1" strike="noStrike">
                <a:solidFill>
                  <a:srgbClr val="ffd9ff"/>
                </a:solidFill>
                <a:latin typeface="Times New Roman"/>
              </a:rPr>
              <a:t>Patrícia Ueda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78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Algoritmo de Yates -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2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5105520"/>
            <a:ext cx="4038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Times New Roman"/>
              </a:rPr>
              <a:t>(1º valor) + (2º valor) + (3º val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Times New Roman"/>
              </a:rPr>
              <a:t>(3º valor) – (1º val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(1º valor) – 2* (2º valor) + (3º val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6320" y="914400"/>
            <a:ext cx="8915400" cy="3902040"/>
            <a:chOff x="76320" y="914400"/>
            <a:chExt cx="8915400" cy="3902040"/>
          </a:xfrm>
        </p:grpSpPr>
        <p:graphicFrame>
          <p:nvGraphicFramePr>
            <p:cNvPr id="223" name=""/>
            <p:cNvGraphicFramePr/>
            <p:nvPr/>
          </p:nvGraphicFramePr>
          <p:xfrm>
            <a:off x="76320" y="914400"/>
            <a:ext cx="8915400" cy="390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914400"/>
                      <a:ext cx="8915400" cy="390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>
              <a:off x="2819520" y="1219320"/>
              <a:ext cx="685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19520" y="3581280"/>
              <a:ext cx="685800" cy="381240"/>
            </a:xfrm>
            <a:prstGeom prst="ellipse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19520" y="2362320"/>
              <a:ext cx="685800" cy="380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952880" y="5029200"/>
            <a:ext cx="3962520" cy="15685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visor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: nº fa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t: nº fatores – nº termos lineares no efe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Projeto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3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6699"/>
                </a:solidFill>
                <a:latin typeface="Arial"/>
              </a:rPr>
              <a:t>Exemplo: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Uma máquina é usada para encher galões de 5 litros de um refrigerante. Busca-se reduzir a perda </a:t>
            </a:r>
            <a:r>
              <a:rPr b="0" lang="pt-BR" sz="2800" spc="-1" strike="noStrike">
                <a:solidFill>
                  <a:srgbClr val="ff6699"/>
                </a:solidFill>
                <a:latin typeface="Arial"/>
              </a:rPr>
              <a:t>y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devida a espuma no processo de enchimento, que pode ser afetada pelos fator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A) boc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ff6699"/>
                </a:solidFill>
                <a:latin typeface="Arial"/>
              </a:rPr>
              <a:t>(1, 2, 3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B) velocidade do enchiment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6699"/>
                </a:solidFill>
                <a:latin typeface="Arial"/>
              </a:rPr>
              <a:t>(100, 120 e 140 RPM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C) pressão na operaçã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ff6699"/>
                </a:solidFill>
                <a:latin typeface="Arial"/>
              </a:rPr>
              <a:t>(10, 15 e 20 p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562720" y="457200"/>
            <a:ext cx="2437920" cy="1980720"/>
            <a:chOff x="5562720" y="457200"/>
            <a:chExt cx="2437920" cy="1980720"/>
          </a:xfrm>
        </p:grpSpPr>
        <p:sp>
          <p:nvSpPr>
            <p:cNvPr id="232" name=""/>
            <p:cNvSpPr/>
            <p:nvPr/>
          </p:nvSpPr>
          <p:spPr>
            <a:xfrm>
              <a:off x="6523200" y="2116080"/>
              <a:ext cx="32364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62720" y="1315800"/>
              <a:ext cx="2696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52520" y="1888200"/>
              <a:ext cx="32904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43600" y="986760"/>
              <a:ext cx="1227600" cy="104616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943600" y="511920"/>
              <a:ext cx="781200" cy="475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171200" y="511920"/>
              <a:ext cx="782280" cy="475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171200" y="1556280"/>
              <a:ext cx="782280" cy="4770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943600" y="1556280"/>
              <a:ext cx="781200" cy="4770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24800" y="511920"/>
              <a:ext cx="0" cy="10447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46760" y="1569960"/>
              <a:ext cx="122760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24800" y="511920"/>
              <a:ext cx="12286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951680" y="511920"/>
              <a:ext cx="2160" cy="1044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02200" y="1973160"/>
              <a:ext cx="11124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02200" y="928080"/>
              <a:ext cx="11124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82680" y="471240"/>
              <a:ext cx="11232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37560" y="457200"/>
              <a:ext cx="11232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1501920"/>
              <a:ext cx="11232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24040" y="1957680"/>
              <a:ext cx="11232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71880" y="1501920"/>
              <a:ext cx="112320" cy="9540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02440" y="948600"/>
              <a:ext cx="11232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17080" y="1987200"/>
              <a:ext cx="11088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28000" y="1431360"/>
              <a:ext cx="11088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17080" y="943920"/>
              <a:ext cx="110880" cy="964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7240" y="1431360"/>
              <a:ext cx="11124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88120" y="666000"/>
              <a:ext cx="11124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32560" y="735120"/>
              <a:ext cx="110880" cy="964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08880" y="1709640"/>
              <a:ext cx="110880" cy="9504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64440" y="1709640"/>
              <a:ext cx="111240" cy="9504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69360" y="1014120"/>
              <a:ext cx="111240" cy="9504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79920" y="1500840"/>
              <a:ext cx="111240" cy="9540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89760" y="1014120"/>
              <a:ext cx="110880" cy="9504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03960" y="457200"/>
              <a:ext cx="11124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563240" y="752760"/>
              <a:ext cx="1080" cy="1044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361920" y="708480"/>
              <a:ext cx="1080" cy="10458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580800" y="961560"/>
              <a:ext cx="1080" cy="1044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286040" y="509400"/>
              <a:ext cx="1080" cy="10447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03320" y="1778400"/>
              <a:ext cx="122760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27320" y="1074960"/>
              <a:ext cx="122760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55080" y="744480"/>
              <a:ext cx="122868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2720" y="1492200"/>
              <a:ext cx="122760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535080" y="529920"/>
              <a:ext cx="780840" cy="474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6562800" y="1500480"/>
              <a:ext cx="793440" cy="5209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953320" y="1077120"/>
              <a:ext cx="780840" cy="4759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953320" y="1077120"/>
              <a:ext cx="780840" cy="4759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144560" y="1069200"/>
              <a:ext cx="781200" cy="474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88120" y="1258560"/>
              <a:ext cx="114840" cy="9504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1960" y="1032120"/>
              <a:ext cx="114840" cy="9648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79960" y="1728360"/>
              <a:ext cx="113400" cy="9540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20640" y="687240"/>
              <a:ext cx="11268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30040" y="1452960"/>
              <a:ext cx="11232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02760" y="1235880"/>
              <a:ext cx="11232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582240" y="1082880"/>
              <a:ext cx="697680" cy="435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99040" y="1231200"/>
              <a:ext cx="111240" cy="9540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7000" y="1300320"/>
              <a:ext cx="122760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66"/>
                </a:solidFill>
                <a:latin typeface="Times New Roman"/>
              </a:rPr>
              <a:t>Ex. de projeto fatorial 3</a:t>
            </a:r>
            <a:r>
              <a:rPr b="0" i="1" lang="pt-BR" sz="3600" spc="-1" strike="noStrike" baseline="30000">
                <a:solidFill>
                  <a:srgbClr val="ffff66"/>
                </a:solidFill>
                <a:latin typeface="Times New Roman"/>
              </a:rPr>
              <a:t>3</a:t>
            </a:r>
            <a:endParaRPr b="0" i="1" lang="en-US" sz="3600" spc="-1" strike="noStrike">
              <a:solidFill>
                <a:srgbClr val="ffd9ff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9280" y="1981080"/>
          <a:ext cx="8964360" cy="4327200"/>
        </p:xfrm>
        <a:graphic>
          <a:graphicData uri="http://schemas.openxmlformats.org/drawingml/2006/table">
            <a:tbl>
              <a:tblPr/>
              <a:tblGrid>
                <a:gridCol w="812880"/>
                <a:gridCol w="904320"/>
                <a:gridCol w="906480"/>
                <a:gridCol w="906480"/>
                <a:gridCol w="904320"/>
                <a:gridCol w="906480"/>
                <a:gridCol w="906480"/>
                <a:gridCol w="906120"/>
                <a:gridCol w="904320"/>
                <a:gridCol w="906480"/>
              </a:tblGrid>
              <a:tr h="4798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ample 10-1; Montgomery, pag. 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0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1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2 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0 (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1 (1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2 (1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0 (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1 (1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2 (1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0 (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1 (1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2 (1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0 (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1 (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2 (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66"/>
                </a:solidFill>
                <a:latin typeface="Times New Roman"/>
              </a:rPr>
              <a:t>Ex. de projeto fatorial 3</a:t>
            </a:r>
            <a:r>
              <a:rPr b="0" i="1" lang="pt-BR" sz="3600" spc="-1" strike="noStrike" baseline="30000">
                <a:solidFill>
                  <a:srgbClr val="ffff66"/>
                </a:solidFill>
                <a:latin typeface="Times New Roman"/>
              </a:rPr>
              <a:t>3</a:t>
            </a:r>
            <a:endParaRPr b="0" i="1" lang="en-US" sz="36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d9ff"/>
                </a:solidFill>
                <a:latin typeface="Arial"/>
              </a:rPr>
              <a:t>(A)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pt-BR" sz="2400" spc="-1" strike="noStrike">
                <a:solidFill>
                  <a:srgbClr val="ffd9ff"/>
                </a:solidFill>
                <a:latin typeface="Arial"/>
              </a:rPr>
              <a:t>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d9ff"/>
                </a:solidFill>
                <a:latin typeface="Arial"/>
              </a:rPr>
              <a:t>(B)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pt-BR" sz="2400" spc="-1" strike="noStrike">
                <a:solidFill>
                  <a:srgbClr val="ffd9ff"/>
                </a:solidFill>
                <a:latin typeface="Arial"/>
              </a:rPr>
              <a:t>elocidade do enchimento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y  (per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d9ff"/>
                </a:solidFill>
                <a:latin typeface="Arial"/>
              </a:rPr>
              <a:t>(C)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ffd9ff"/>
                </a:solidFill>
                <a:latin typeface="Arial"/>
              </a:rPr>
              <a:t>ressão na operação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762120"/>
            <a:ext cx="228600" cy="167616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14479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547640" y="2565360"/>
            <a:ext cx="5865840" cy="4041000"/>
            <a:chOff x="1547640" y="2565360"/>
            <a:chExt cx="5865840" cy="4041000"/>
          </a:xfrm>
        </p:grpSpPr>
        <p:sp>
          <p:nvSpPr>
            <p:cNvPr id="293" name=""/>
            <p:cNvSpPr/>
            <p:nvPr/>
          </p:nvSpPr>
          <p:spPr>
            <a:xfrm>
              <a:off x="3605040" y="5968800"/>
              <a:ext cx="3049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d9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85720" y="2641320"/>
              <a:ext cx="37944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71920" y="3784320"/>
              <a:ext cx="4636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22480" y="3587400"/>
              <a:ext cx="1725480" cy="156960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922480" y="2876040"/>
              <a:ext cx="1098360" cy="713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647960" y="2876040"/>
              <a:ext cx="1100160" cy="713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647960" y="4443120"/>
              <a:ext cx="1100160" cy="715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922480" y="4443120"/>
              <a:ext cx="1098360" cy="7156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20840" y="2876400"/>
              <a:ext cx="0" cy="15663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51080" y="4463640"/>
              <a:ext cx="1725840" cy="14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20840" y="2876400"/>
              <a:ext cx="17272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744880" y="2876040"/>
              <a:ext cx="3240" cy="1566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63800" y="5067000"/>
              <a:ext cx="156960" cy="1440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63800" y="3500280"/>
              <a:ext cx="1569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60720" y="2815920"/>
              <a:ext cx="1587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84680" y="2793600"/>
              <a:ext cx="1587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44800" y="4360680"/>
              <a:ext cx="1587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81360" y="5044680"/>
              <a:ext cx="1587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46320" y="4360680"/>
              <a:ext cx="157320" cy="1425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51120" y="3530160"/>
              <a:ext cx="1587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27440" y="5089320"/>
              <a:ext cx="1569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86040" y="4255920"/>
              <a:ext cx="15732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7440" y="3524040"/>
              <a:ext cx="156960" cy="1440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9920" y="4255920"/>
              <a:ext cx="15732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06680" y="3106440"/>
              <a:ext cx="15552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14800" y="3211200"/>
              <a:ext cx="156960" cy="1440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22800" y="4671720"/>
              <a:ext cx="156960" cy="1440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12880" y="4671720"/>
              <a:ext cx="157320" cy="14400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41640" y="3628800"/>
              <a:ext cx="156960" cy="1425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0600" y="4358880"/>
              <a:ext cx="156960" cy="1425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7760" y="3628800"/>
              <a:ext cx="1569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94040" y="2793600"/>
              <a:ext cx="15732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198760" y="3237840"/>
              <a:ext cx="1800" cy="1566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509640" y="3171600"/>
              <a:ext cx="1800" cy="15681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817800" y="3550680"/>
              <a:ext cx="1440" cy="1566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809960" y="2872800"/>
              <a:ext cx="1440" cy="15663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8680" y="4776480"/>
              <a:ext cx="172548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24080" y="3720960"/>
              <a:ext cx="172584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00280" y="3225600"/>
              <a:ext cx="172728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19320" y="4346280"/>
              <a:ext cx="172548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752640" y="2903400"/>
              <a:ext cx="1100160" cy="7106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792240" y="4358520"/>
              <a:ext cx="1116000" cy="7822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935080" y="3723840"/>
              <a:ext cx="1098720" cy="714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35080" y="3723840"/>
              <a:ext cx="1098720" cy="714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609800" y="3710880"/>
              <a:ext cx="1100160" cy="712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06680" y="3995280"/>
              <a:ext cx="162000" cy="144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19600" y="3655800"/>
              <a:ext cx="161640" cy="14580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38280" y="4700160"/>
              <a:ext cx="160560" cy="144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95520" y="3139920"/>
              <a:ext cx="1587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46160" y="4287600"/>
              <a:ext cx="1587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14880" y="3962160"/>
              <a:ext cx="1569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819240" y="3733200"/>
              <a:ext cx="981360" cy="6519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5280" y="3954240"/>
              <a:ext cx="157320" cy="14400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60680" y="4059000"/>
              <a:ext cx="172692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2920" y="5308200"/>
              <a:ext cx="228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d9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81360" y="5308200"/>
              <a:ext cx="228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d9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19440" y="5308200"/>
              <a:ext cx="228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d9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85720" y="3403440"/>
              <a:ext cx="3812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pt-BR" sz="2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62040" y="4089240"/>
              <a:ext cx="228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62040" y="4851000"/>
              <a:ext cx="228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00"/>
                  </a:solidFill>
                  <a:latin typeface="Times New Roman"/>
                </a:rPr>
                <a:t>-</a:t>
              </a:r>
              <a:r>
                <a:rPr b="1" lang="pt-BR" sz="18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32280" y="4370040"/>
              <a:ext cx="3808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57520" y="4698720"/>
              <a:ext cx="228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00320" y="5003640"/>
              <a:ext cx="228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974560" y="4179600"/>
              <a:ext cx="268920" cy="269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38360" y="3022200"/>
              <a:ext cx="0" cy="3808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23960" y="2565360"/>
              <a:ext cx="37944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47640" y="3403440"/>
              <a:ext cx="533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47640" y="4089240"/>
              <a:ext cx="609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47640" y="4851000"/>
              <a:ext cx="533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1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99920" y="3022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76840" y="4698720"/>
              <a:ext cx="533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19640" y="5155920"/>
              <a:ext cx="533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6120" y="5536800"/>
              <a:ext cx="533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6200000">
              <a:off x="3643200" y="4965120"/>
              <a:ext cx="228240" cy="182880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4840" y="3632040"/>
              <a:ext cx="30492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04840" y="4317840"/>
              <a:ext cx="30492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04840" y="5079600"/>
              <a:ext cx="30492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53760" y="4690440"/>
              <a:ext cx="344520" cy="16200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42640" y="5036760"/>
              <a:ext cx="344520" cy="16200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85440" y="5341320"/>
              <a:ext cx="344520" cy="16200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34040" y="4012920"/>
              <a:ext cx="37944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823800" y="4449240"/>
              <a:ext cx="268920" cy="26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3985560" y="6222600"/>
              <a:ext cx="1143000" cy="228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02000" y="6146640"/>
              <a:ext cx="214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66"/>
                  </a:solidFill>
                  <a:latin typeface="Times New Roman"/>
                </a:rPr>
                <a:t>fator qualit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66"/>
                </a:solidFill>
                <a:latin typeface="Times New Roman"/>
              </a:rPr>
              <a:t>Confundimento de Fatoriais </a:t>
            </a:r>
            <a:r>
              <a:rPr b="0" i="1" lang="pt-BR" sz="36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36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3600" spc="-1" strike="noStrike">
                <a:solidFill>
                  <a:srgbClr val="ffd9ff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Revisand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FUNDIMENTO: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écnica empregada na organização de delineamentos para experimentos fatoriais, possibilitando obter maior precisão nas comparações mais importantes, pelo sacrifício de outras, menos relev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FINIÇÃ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Quando 2 ou mais efeitos não podem ser estimados independentemente, diz-se que estão confun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écnica para arranjar um fatorial completo em blocos, onde o tamanho dos blocos é menor do que o n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° de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rat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66"/>
                </a:solidFill>
                <a:latin typeface="Times New Roman"/>
              </a:rPr>
              <a:t>Confundimento em Fatoriais </a:t>
            </a: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03280" y="2133720"/>
            <a:ext cx="630252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Confundimento no Fatorial 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3 blo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Confundimento no Fatorial 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9 blo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onfundimento no Fatorial 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3</a:t>
            </a:r>
            <a:r>
              <a:rPr b="1" lang="pt-BR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locos, com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</a:rPr>
              <a:t>k-p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bservações em 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Confundimento em Fatoriais </a:t>
            </a:r>
            <a:r>
              <a:rPr b="0" i="1" lang="pt-BR" sz="44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4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endParaRPr b="0" i="1" lang="en-US" sz="44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struindo os bloc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187280" y="2637000"/>
                <a:ext cx="63374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684360" y="3573360"/>
            <a:ext cx="8064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é o nível do i-ésimo fator que aparece na combinação de tra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é o coeficiente do i-ésimo fator no efeito a ser confun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ara o sistema 3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tem-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= 0, 1 ou 2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    x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= 0 (baixo), 1 (intermediário) ou 2 (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finição dos blocos:  valor de   </a:t>
            </a:r>
            <a:r>
              <a:rPr b="1" lang="pt-BR" sz="2400" spc="-1" strike="noStrike">
                <a:solidFill>
                  <a:srgbClr val="00cc99"/>
                </a:solidFill>
                <a:latin typeface="Arial"/>
              </a:rPr>
              <a:t>L(mod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000" spc="-1" strike="noStrike">
                <a:solidFill>
                  <a:srgbClr val="ffff66"/>
                </a:solidFill>
                <a:latin typeface="Times New Roman"/>
              </a:rPr>
              <a:t> em 3 blocos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xemplo para fatorial 3</a:t>
            </a:r>
            <a:r>
              <a:rPr b="1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SITUAÇÃO PROBLEMA: </a:t>
            </a:r>
            <a:r>
              <a:rPr b="0" i="1" lang="pt-B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(Sabrina e Marília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Fatorial 3</a:t>
            </a:r>
            <a:r>
              <a:rPr b="1" lang="pt-BR" sz="24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com 1 repetição e cada combinação de tratamentos (9) requer uma quantidade de matéria-prima, mas cada lote de matéria-prima só é suficiente para testar 3 combinações de tratamento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4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4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 em 3 blocos</a:t>
            </a:r>
            <a:endParaRPr b="0" i="1" lang="en-US" sz="44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xemplo para fatorial 3</a:t>
            </a:r>
            <a:r>
              <a:rPr b="1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 lotes serão necessários para realizar o experiment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 os lotes de matéria-prima forem considerados como blocos, devemos classificar 3 das 9 combinações de tratamentos como pertencentes a cada blo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067280" y="4221000"/>
            <a:ext cx="1611360" cy="13924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88000" y="4149720"/>
            <a:ext cx="14580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88000" y="4869000"/>
            <a:ext cx="145800" cy="1267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80000" y="4869000"/>
            <a:ext cx="146160" cy="1267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80000" y="414972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95640" y="414972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88000" y="5516640"/>
            <a:ext cx="14580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80000" y="551664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95640" y="4869000"/>
            <a:ext cx="146160" cy="1267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95640" y="551664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859280" y="4220640"/>
            <a:ext cx="1800" cy="1390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67280" y="4941720"/>
            <a:ext cx="1611360" cy="1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51280" y="566100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16360" y="566100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566100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80000" y="393372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933720"/>
            <a:ext cx="37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59280" y="472428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08360" y="47973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716360" y="393372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96000" y="47973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16360" y="59500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76720" y="47242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8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8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 em 3 blocos</a:t>
            </a:r>
            <a:endParaRPr b="0" i="1" lang="en-US" sz="48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137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struindo os blocos de um fatorial 3</a:t>
            </a:r>
            <a:r>
              <a:rPr b="1" lang="pt-BR" sz="2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mponentes de interação: AB   ou AB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00)                 L = 1*(0) + 1*(0) = 0 mod(3) = 0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01)                 L = 1*(0) + 1*(1) = 1 mod(3) = 1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02)                 L = 1*(0) + 1*(2) = 2 mod(3) = 2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10)                 L = 1*(1) + 1*(0) = 1 mod(3) = 1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11)                 L = 1*(1) + 1*(1) = 2 mod(3) = 2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12)                 L = 1*(1) + 1*(2) = 3 mod(3) = 0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20)                 L = 1*(2) + 1*(0) = 2 mod(3) = 2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21)                 L = 1*(2) + 1*(1) = 3 mod(3) = 0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22)                 L = 1*(2) + 1*(2) = 4 mod(3) = 1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340000" y="2997360"/>
                <a:ext cx="216216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18728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6093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87280" y="5805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87280" y="5013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87280" y="393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87280" y="4221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87280" y="5589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797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87280" y="4508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4788000" y="2276280"/>
            <a:ext cx="502920" cy="5032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51640" y="4076640"/>
            <a:ext cx="647640" cy="134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cc99"/>
                </a:solidFill>
                <a:latin typeface="Times New Roman"/>
              </a:rPr>
              <a:t>Bloco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88000" y="4437000"/>
            <a:ext cx="648000" cy="134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cc99"/>
                </a:solidFill>
                <a:latin typeface="Times New Roman"/>
              </a:rPr>
              <a:t>Bloco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24720" y="4724280"/>
            <a:ext cx="647640" cy="134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cc99"/>
                </a:solidFill>
                <a:latin typeface="Times New Roman"/>
              </a:rPr>
              <a:t>Bloco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pt-BR" sz="2400" spc="-1" strike="noStrike" baseline="30000">
                <a:solidFill>
                  <a:srgbClr val="ffffcc"/>
                </a:solidFill>
                <a:latin typeface="Arial"/>
              </a:rPr>
              <a:t>k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: k fatores com 3 níveis cad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Fator qualitativo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íveis: baixo (0), intermediário (1), alto 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Fator quantitativo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íveis: baixo (-1), intermediário (0), alto 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692280"/>
            <a:ext cx="77724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Delineamento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br>
              <a:rPr sz="4000"/>
            </a:b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 </a:t>
            </a: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No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4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4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 em 3 blocos</a:t>
            </a:r>
            <a:endParaRPr b="0" i="1" lang="en-US" sz="44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0769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xemplo para fatorial 3</a:t>
            </a:r>
            <a:r>
              <a:rPr b="1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 tempo de vida de um determinado instrumento em uma máquina deve estar relacionada à velocidade de corte (minutos) e ao ângulo de uso (graus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067280" y="4221000"/>
            <a:ext cx="1611360" cy="13924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88000" y="4149720"/>
            <a:ext cx="145800" cy="1270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88000" y="4869000"/>
            <a:ext cx="145800" cy="1267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80000" y="4869000"/>
            <a:ext cx="146160" cy="1267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580000" y="4149720"/>
            <a:ext cx="146160" cy="1270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95640" y="414972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88000" y="5516640"/>
            <a:ext cx="145800" cy="1270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80000" y="551664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95640" y="4869000"/>
            <a:ext cx="146160" cy="1267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95640" y="5516640"/>
            <a:ext cx="146160" cy="1270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859280" y="4292640"/>
            <a:ext cx="0" cy="13190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67280" y="4941720"/>
            <a:ext cx="1611360" cy="1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51280" y="566100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16360" y="566100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80000" y="566100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80000" y="386064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80000" y="3933720"/>
            <a:ext cx="37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932360" y="45813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708360" y="47973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16360" y="386064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24360" y="47973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16360" y="59500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47242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59640" y="4221000"/>
            <a:ext cx="146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loc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loc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loc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32720" y="4292640"/>
            <a:ext cx="144360" cy="1429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32720" y="4581360"/>
            <a:ext cx="145800" cy="1270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32720" y="4869000"/>
            <a:ext cx="145800" cy="1267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4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4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 em 3 blocos</a:t>
            </a:r>
            <a:endParaRPr b="0" i="1" lang="en-US" sz="44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xemplo para fatorial 3</a:t>
            </a:r>
            <a:r>
              <a:rPr b="1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Antes do confundimento             Após confundimento AB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2050920" y="3284640"/>
          <a:ext cx="2371680" cy="33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284640"/>
                    <a:ext cx="23716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5651640" y="3357720"/>
          <a:ext cx="2592360" cy="2449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3357720"/>
                    <a:ext cx="259236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8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8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 em 3 blocos</a:t>
            </a:r>
            <a:endParaRPr b="0" i="1" lang="en-US" sz="48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Construindo os blocos de um fatorial 3</a:t>
            </a:r>
            <a:r>
              <a:rPr b="1" lang="pt-BR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ponente de interação e definição de contrast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2771640" y="3284640"/>
                <a:ext cx="2087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2771640" y="4221000"/>
                <a:ext cx="208764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771640" y="5084640"/>
                <a:ext cx="2087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771640" y="5950080"/>
                <a:ext cx="216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Cenas do Próximo capítulo</a:t>
            </a:r>
            <a:endParaRPr b="0" i="1" lang="en-US" sz="48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03280" y="2133720"/>
            <a:ext cx="630252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Confundimento no Fatorial 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9 blo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Confundimento no Fatorial 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3</a:t>
            </a:r>
            <a:r>
              <a:rPr b="1" lang="pt-BR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locos, com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</a:rPr>
              <a:t>k-p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bservações em 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* Repetição Fra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219640" y="2276640"/>
            <a:ext cx="3200400" cy="2636280"/>
            <a:chOff x="5219640" y="2276640"/>
            <a:chExt cx="3200400" cy="2636280"/>
          </a:xfrm>
        </p:grpSpPr>
        <p:sp>
          <p:nvSpPr>
            <p:cNvPr id="101" name=""/>
            <p:cNvSpPr/>
            <p:nvPr/>
          </p:nvSpPr>
          <p:spPr>
            <a:xfrm>
              <a:off x="6480360" y="4484520"/>
              <a:ext cx="4251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19640" y="3419280"/>
              <a:ext cx="354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62840" y="4181400"/>
              <a:ext cx="4320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19680" y="2981160"/>
              <a:ext cx="1611360" cy="139212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719680" y="2349000"/>
              <a:ext cx="1025640" cy="6332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331040" y="2349000"/>
              <a:ext cx="1027080" cy="6332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7331040" y="3739680"/>
              <a:ext cx="1027080" cy="634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719680" y="3739680"/>
              <a:ext cx="1025640" cy="6346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45320" y="2349360"/>
              <a:ext cx="0" cy="13903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73760" y="375768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45320" y="2349360"/>
              <a:ext cx="16128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355240" y="2349360"/>
              <a:ext cx="2880" cy="1390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65680" y="429408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65680" y="290340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89880" y="229536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05840" y="227664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61280" y="366696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69120" y="427356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75480" y="3666960"/>
              <a:ext cx="14760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40680" y="293040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72440" y="4313160"/>
              <a:ext cx="1458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4160" y="3573360"/>
              <a:ext cx="1458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72440" y="2924280"/>
              <a:ext cx="145800" cy="1281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72160" y="357336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72200" y="255420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74120" y="2646360"/>
              <a:ext cx="145800" cy="1281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4200" y="3943440"/>
              <a:ext cx="145800" cy="1263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72280" y="3943440"/>
              <a:ext cx="146160" cy="126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72240" y="3017880"/>
              <a:ext cx="146160" cy="126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73960" y="3665520"/>
              <a:ext cx="14616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74240" y="3017880"/>
              <a:ext cx="145800" cy="1263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73880" y="227664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7845480" y="2670120"/>
              <a:ext cx="1440" cy="1390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269040" y="2611440"/>
              <a:ext cx="1800" cy="1391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556320" y="2948040"/>
              <a:ext cx="1800" cy="1390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481880" y="2346120"/>
              <a:ext cx="1800" cy="13903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3040" y="403524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48560" y="309888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9680" y="2658960"/>
              <a:ext cx="161280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10400" y="365436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96200" y="2373120"/>
              <a:ext cx="1025280" cy="63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532560" y="3665520"/>
              <a:ext cx="1041480" cy="6933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732640" y="3101400"/>
              <a:ext cx="1025280" cy="633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732640" y="3101400"/>
              <a:ext cx="1025280" cy="633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296120" y="3090960"/>
              <a:ext cx="1025640" cy="63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72200" y="3343320"/>
              <a:ext cx="150840" cy="126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97640" y="3041640"/>
              <a:ext cx="150840" cy="1281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48720" y="3968640"/>
              <a:ext cx="14904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02360" y="2582640"/>
              <a:ext cx="1479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89720" y="360180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66280" y="331308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558120" y="3109320"/>
              <a:ext cx="915840" cy="579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73920" y="3306600"/>
              <a:ext cx="14616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22960" y="339876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242040" y="486720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3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87280" y="2276640"/>
            <a:ext cx="2612880" cy="2917440"/>
            <a:chOff x="1187280" y="2276640"/>
            <a:chExt cx="2612880" cy="2917440"/>
          </a:xfrm>
        </p:grpSpPr>
        <p:sp>
          <p:nvSpPr>
            <p:cNvPr id="157" name=""/>
            <p:cNvSpPr/>
            <p:nvPr/>
          </p:nvSpPr>
          <p:spPr>
            <a:xfrm>
              <a:off x="2447640" y="4348080"/>
              <a:ext cx="425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87280" y="3282840"/>
              <a:ext cx="353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87320" y="2844720"/>
              <a:ext cx="1611360" cy="139248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33320" y="415764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33320" y="276696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6760" y="413712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7960" y="279396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39720" y="417672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41440" y="343692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9720" y="2787840"/>
              <a:ext cx="146160" cy="1285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9440" y="343692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523960" y="2811240"/>
              <a:ext cx="1440" cy="1390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77680" y="351792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57000" y="346572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72640" y="4673520"/>
              <a:ext cx="15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Times New Roman"/>
                </a:rPr>
                <a:t>Projeto 3</a:t>
              </a:r>
              <a:r>
                <a:rPr b="0" lang="pt-BR" sz="28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68000" y="22766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98600" y="23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60720" y="23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64920" y="2616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1600" y="330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41600" y="398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84360" y="765000"/>
            <a:ext cx="77724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Delineamento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Usados quando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istir fatores qualitativos com mais de 2 níve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istir fatores quantitativos em que se suspeita haver efeitos não line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692280"/>
            <a:ext cx="77724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Delineamento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038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d9ff"/>
                </a:solidFill>
                <a:latin typeface="Times New Roman"/>
              </a:rPr>
              <a:t>O projeto 3</a:t>
            </a:r>
            <a:r>
              <a:rPr b="0" i="1" lang="pt-BR" sz="4800" spc="-1" strike="noStrike" baseline="30000">
                <a:solidFill>
                  <a:srgbClr val="ffd9ff"/>
                </a:solidFill>
                <a:latin typeface="Times New Roman"/>
              </a:rPr>
              <a:t>2</a:t>
            </a:r>
            <a:endParaRPr b="0" i="1" lang="en-US" sz="48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Fonte de variação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graus de liberdad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AB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Para fatores quantitativos pode-se considerar os efeitos lineares (L) e quadráticos (Q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70800" y="2376360"/>
            <a:ext cx="425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1311120"/>
            <a:ext cx="3542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873000"/>
            <a:ext cx="1611360" cy="13924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56120" y="218592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56120" y="79524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59560" y="2165400"/>
            <a:ext cx="14760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31120" y="822240"/>
            <a:ext cx="14760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62880" y="2205000"/>
            <a:ext cx="14580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4600" y="1465200"/>
            <a:ext cx="14580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62880" y="816120"/>
            <a:ext cx="145800" cy="128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2600" y="146520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746760" y="839520"/>
            <a:ext cx="1800" cy="1390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00840" y="1546200"/>
            <a:ext cx="1611360" cy="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80160" y="1494000"/>
            <a:ext cx="147600" cy="1267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91160" y="304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21760" y="33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83520" y="33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88080" y="64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4760" y="133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64760" y="201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819520"/>
            <a:ext cx="5486400" cy="0"/>
          </a:xfrm>
          <a:prstGeom prst="line">
            <a:avLst/>
          </a:prstGeom>
          <a:ln w="2844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276720"/>
            <a:ext cx="5486400" cy="0"/>
          </a:xfrm>
          <a:prstGeom prst="line">
            <a:avLst/>
          </a:prstGeom>
          <a:ln w="2844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4648320"/>
            <a:ext cx="5486400" cy="0"/>
          </a:xfrm>
          <a:prstGeom prst="line">
            <a:avLst/>
          </a:prstGeom>
          <a:ln w="2844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Anov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2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62120" y="1616040"/>
          <a:ext cx="3886200" cy="4114800"/>
        </p:xfrm>
        <a:graphic>
          <a:graphicData uri="http://schemas.openxmlformats.org/drawingml/2006/table">
            <a:tbl>
              <a:tblPr/>
              <a:tblGrid>
                <a:gridCol w="990360"/>
                <a:gridCol w="1600200"/>
                <a:gridCol w="129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A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SQA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A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SQA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SQ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SQ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r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20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n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3</a:t>
                      </a:r>
                      <a:r>
                        <a:rPr b="0" lang="pt-BR" sz="20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2 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715000" y="1600200"/>
                <a:ext cx="246384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j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257800" y="3886200"/>
            <a:ext cx="36576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: número de níveis do f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: número de repeti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coeficiente do contraste ortog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Anov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2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90920" y="1905120"/>
          <a:ext cx="3886200" cy="2266920"/>
        </p:xfrm>
        <a:graphic>
          <a:graphicData uri="http://schemas.openxmlformats.org/drawingml/2006/table">
            <a:tbl>
              <a:tblPr/>
              <a:tblGrid>
                <a:gridCol w="1143000"/>
                <a:gridCol w="1676160"/>
                <a:gridCol w="1067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x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x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x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x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x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x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x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x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838080" y="4952880"/>
            <a:ext cx="7696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trastes ortog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adrados latinos ortog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Exemplo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2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692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 tempo de vida de um determinado instrumento em uma máquina deve estar relacionada à velocidade de corte (minutos) e ao ângulo de uso (graus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00000" y="3429000"/>
          <a:ext cx="7459920" cy="30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429000"/>
                    <a:ext cx="745992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Exemplo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2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8984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 tempo de vida de um determinado instrumento em uma máquina deve estar relacionada à velocidade de corte (minutos) e ao ângulo de uso (graus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9640" y="2421000"/>
          <a:ext cx="7993080" cy="4176720"/>
        </p:xfrm>
        <a:graphic>
          <a:graphicData uri="http://schemas.openxmlformats.org/drawingml/2006/table">
            <a:tbl>
              <a:tblPr/>
              <a:tblGrid>
                <a:gridCol w="1333440"/>
                <a:gridCol w="1330560"/>
                <a:gridCol w="1333440"/>
                <a:gridCol w="1332000"/>
                <a:gridCol w="1330200"/>
                <a:gridCol w="133344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Q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2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,00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A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8,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8,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,03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A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16,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16,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,00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5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2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,00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21,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21,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,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,0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4,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4,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,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,13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1,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,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,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,02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r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,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2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01:34:54Z</dcterms:created>
  <dc:creator>Pedro</dc:creator>
  <dc:description/>
  <dc:language>en-US</dc:language>
  <cp:lastModifiedBy>Juscelino</cp:lastModifiedBy>
  <dcterms:modified xsi:type="dcterms:W3CDTF">2005-10-26T11:17:20Z</dcterms:modified>
  <cp:revision>54</cp:revision>
  <dc:subject/>
  <dc:title>Projetos fatoriais com fatores com mais de 2 níveis</dc:title>
</cp:coreProperties>
</file>