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5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E513-E79A-4F0E-AB14-5D22AD336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498E-CD6D-454F-9229-049B9BBE1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488A-699D-4550-B7BD-20046C626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2ED4-E123-493C-B983-F56244895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6FB5-A3C7-4BE8-8BF2-E3CA3D391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2123-2E1F-45DE-BFCA-3EB97F731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4D7F-B82B-488E-96AA-728EE7DDF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9F31-8685-4B8A-B78C-C9F01A06D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C44D-4559-4DBB-A934-95BD156D8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6A75-372D-4D56-819B-676CD38E0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A480-1E31-4CE8-9195-2B5D4994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35BD-3FF3-4059-B182-5EB1D5E47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7102A-2B66-4B15-98F5-28BBB16B6E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13600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Arial"/>
              </a:rPr>
              <a:t>PROJETO E ANÁLISE DE EXPERIMENT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19320" y="4800600"/>
            <a:ext cx="6781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SCELINO ZEMIAC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TRICIA UE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324000" y="762120"/>
          <a:ext cx="8496000" cy="5181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762120"/>
                    <a:ext cx="849600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Hipóteses Nula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99"/>
                </a:solidFill>
                <a:latin typeface="Arial"/>
              </a:rPr>
              <a:t>H</a:t>
            </a:r>
            <a:r>
              <a:rPr b="0" lang="pt-BR" sz="2800" spc="-1" strike="noStrike" baseline="-25000">
                <a:solidFill>
                  <a:srgbClr val="003399"/>
                </a:solidFill>
                <a:latin typeface="Arial"/>
              </a:rPr>
              <a:t>0</a:t>
            </a:r>
            <a:r>
              <a:rPr b="0" lang="pt-BR" sz="2800" spc="-1" strike="noStrike" baseline="30000">
                <a:solidFill>
                  <a:srgbClr val="003399"/>
                </a:solidFill>
                <a:latin typeface="Arial"/>
              </a:rPr>
              <a:t>(A)</a:t>
            </a:r>
            <a:r>
              <a:rPr b="0" lang="pt-BR" sz="2800" spc="-1" strike="noStrike">
                <a:solidFill>
                  <a:srgbClr val="003399"/>
                </a:solidFill>
                <a:latin typeface="Arial"/>
              </a:rPr>
              <a:t>: os tempos esperados de resposta</a:t>
            </a:r>
            <a:r>
              <a:rPr b="0" i="1" lang="pt-BR" sz="2800" spc="-1" strike="noStrike">
                <a:solidFill>
                  <a:srgbClr val="003399"/>
                </a:solidFill>
                <a:latin typeface="Arial"/>
              </a:rPr>
              <a:t> são iguais</a:t>
            </a:r>
            <a:r>
              <a:rPr b="0" lang="pt-BR" sz="2800" spc="-1" strike="noStrike">
                <a:solidFill>
                  <a:srgbClr val="003399"/>
                </a:solidFill>
                <a:latin typeface="Arial"/>
              </a:rPr>
              <a:t> para os três níveis de carbonat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1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99"/>
                </a:solidFill>
                <a:latin typeface="Arial"/>
              </a:rPr>
              <a:t>H</a:t>
            </a:r>
            <a:r>
              <a:rPr b="0" lang="pt-BR" sz="2800" spc="-1" strike="noStrike" baseline="-25000">
                <a:solidFill>
                  <a:srgbClr val="003399"/>
                </a:solidFill>
                <a:latin typeface="Arial"/>
              </a:rPr>
              <a:t>0</a:t>
            </a:r>
            <a:r>
              <a:rPr b="0" lang="pt-BR" sz="2800" spc="-1" strike="noStrike" baseline="30000">
                <a:solidFill>
                  <a:srgbClr val="003399"/>
                </a:solidFill>
                <a:latin typeface="Arial"/>
              </a:rPr>
              <a:t>(B)</a:t>
            </a:r>
            <a:r>
              <a:rPr b="0" lang="pt-BR" sz="2800" spc="-1" strike="noStrike">
                <a:solidFill>
                  <a:srgbClr val="003399"/>
                </a:solidFill>
                <a:latin typeface="Arial"/>
              </a:rPr>
              <a:t>: os tempos esperados de resposta</a:t>
            </a:r>
            <a:r>
              <a:rPr b="0" i="1" lang="pt-BR" sz="2800" spc="-1" strike="noStrike">
                <a:solidFill>
                  <a:srgbClr val="003399"/>
                </a:solidFill>
                <a:latin typeface="Arial"/>
              </a:rPr>
              <a:t> são iguais</a:t>
            </a:r>
            <a:r>
              <a:rPr b="0" lang="pt-BR" sz="2800" spc="-1" strike="noStrike">
                <a:solidFill>
                  <a:srgbClr val="003399"/>
                </a:solidFill>
                <a:latin typeface="Arial"/>
              </a:rPr>
              <a:t> para os dois níveis de press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1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99"/>
                </a:solidFill>
                <a:latin typeface="Arial"/>
              </a:rPr>
              <a:t>H</a:t>
            </a:r>
            <a:r>
              <a:rPr b="0" lang="pt-BR" sz="2800" spc="-1" strike="noStrike" baseline="-25000">
                <a:solidFill>
                  <a:srgbClr val="003399"/>
                </a:solidFill>
                <a:latin typeface="Arial"/>
              </a:rPr>
              <a:t>0</a:t>
            </a:r>
            <a:r>
              <a:rPr b="0" lang="pt-BR" sz="2800" spc="-1" strike="noStrike" baseline="30000">
                <a:solidFill>
                  <a:srgbClr val="003399"/>
                </a:solidFill>
                <a:latin typeface="Arial"/>
              </a:rPr>
              <a:t>(C)</a:t>
            </a:r>
            <a:r>
              <a:rPr b="0" lang="pt-BR" sz="2800" spc="-1" strike="noStrike">
                <a:solidFill>
                  <a:srgbClr val="003399"/>
                </a:solidFill>
                <a:latin typeface="Arial"/>
              </a:rPr>
              <a:t>: os tempos esperados de resposta</a:t>
            </a:r>
            <a:r>
              <a:rPr b="0" i="1" lang="pt-BR" sz="2800" spc="-1" strike="noStrike">
                <a:solidFill>
                  <a:srgbClr val="003399"/>
                </a:solidFill>
                <a:latin typeface="Arial"/>
              </a:rPr>
              <a:t> são iguais</a:t>
            </a:r>
            <a:r>
              <a:rPr b="0" lang="pt-BR" sz="2800" spc="-1" strike="noStrike">
                <a:solidFill>
                  <a:srgbClr val="003399"/>
                </a:solidFill>
                <a:latin typeface="Arial"/>
              </a:rPr>
              <a:t> para os dois níveis de velocid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1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99"/>
                </a:solidFill>
                <a:latin typeface="Arial"/>
              </a:rPr>
              <a:t>H</a:t>
            </a:r>
            <a:r>
              <a:rPr b="0" lang="pt-BR" sz="2800" spc="-1" strike="noStrike" baseline="-25000">
                <a:solidFill>
                  <a:srgbClr val="003399"/>
                </a:solidFill>
                <a:latin typeface="Arial"/>
              </a:rPr>
              <a:t>0</a:t>
            </a:r>
            <a:r>
              <a:rPr b="0" lang="pt-BR" sz="2800" spc="-1" strike="noStrike" baseline="30000">
                <a:solidFill>
                  <a:srgbClr val="003399"/>
                </a:solidFill>
                <a:latin typeface="Arial"/>
              </a:rPr>
              <a:t>(AB)</a:t>
            </a:r>
            <a:r>
              <a:rPr b="0" lang="pt-BR" sz="2800" spc="-1" strike="noStrike">
                <a:solidFill>
                  <a:srgbClr val="003399"/>
                </a:solidFill>
                <a:latin typeface="Arial"/>
              </a:rPr>
              <a:t>: os tempos esperados de resposta</a:t>
            </a:r>
            <a:r>
              <a:rPr b="0" i="1" lang="pt-BR" sz="2800" spc="-1" strike="noStrike">
                <a:solidFill>
                  <a:srgbClr val="003399"/>
                </a:solidFill>
                <a:latin typeface="Arial"/>
              </a:rPr>
              <a:t> são iguais</a:t>
            </a:r>
            <a:r>
              <a:rPr b="0" lang="pt-BR" sz="2800" spc="-1" strike="noStrike">
                <a:solidFill>
                  <a:srgbClr val="003399"/>
                </a:solidFill>
                <a:latin typeface="Arial"/>
              </a:rPr>
              <a:t> para os fat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3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3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3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a de quadra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52280" y="1828800"/>
          <a:ext cx="8839440" cy="421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828800"/>
                    <a:ext cx="8839440" cy="42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13564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Arial"/>
              </a:rPr>
              <a:t>EXPERIMENTOS FATORIAIS COM FATORES ALEATÓR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FATORES ALEATÓ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tores quantita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o de regress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íveis dos fatores escolhidos aleatoriam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erências para todos os possíveis níveis dos fat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EXPERIMENTO FATORIAL COM 2 FATORES A NÍVEIS ALEATÓ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39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Fato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 A com “a” níveis aleató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- B com “b” níveis aleatóri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EXPERIMENTO FATORIAL COM 2 FATORES A NÍVEIS ALEATÓ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39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Modelo estatístic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2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1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pt-BR" sz="3100" spc="-1" strike="noStrike" baseline="-25000">
                <a:solidFill>
                  <a:srgbClr val="000000"/>
                </a:solidFill>
                <a:latin typeface="Times New Roman"/>
              </a:rPr>
              <a:t>ijk</a:t>
            </a:r>
            <a:r>
              <a:rPr b="0" lang="pt-BR" sz="3100" spc="-1" strike="noStrike">
                <a:solidFill>
                  <a:srgbClr val="000000"/>
                </a:solidFill>
                <a:latin typeface="Times New Roman"/>
              </a:rPr>
              <a:t>  =  µ  +  </a:t>
            </a:r>
            <a:r>
              <a:rPr b="0" lang="pt-BR" sz="31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pt-BR" sz="31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t-BR" sz="3100" spc="-1" strike="noStrike">
                <a:solidFill>
                  <a:srgbClr val="000000"/>
                </a:solidFill>
                <a:latin typeface="Times New Roman"/>
              </a:rPr>
              <a:t>   +   </a:t>
            </a:r>
            <a:r>
              <a:rPr b="0" lang="pt-BR" sz="31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t-BR" sz="31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pt-BR" sz="3100" spc="-1" strike="noStrike">
                <a:solidFill>
                  <a:srgbClr val="000000"/>
                </a:solidFill>
                <a:latin typeface="Times New Roman"/>
              </a:rPr>
              <a:t>  +  (</a:t>
            </a:r>
            <a:r>
              <a:rPr b="0" lang="pt-BR" sz="31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pt-BR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31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t-BR" sz="31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pt-BR" sz="31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pt-BR" sz="3100" spc="-1" strike="noStrike">
                <a:solidFill>
                  <a:srgbClr val="000000"/>
                </a:solidFill>
                <a:latin typeface="Times New Roman"/>
              </a:rPr>
              <a:t>  +  e</a:t>
            </a:r>
            <a:r>
              <a:rPr b="0" lang="pt-BR" sz="3100" spc="-1" strike="noStrike" baseline="-25000">
                <a:solidFill>
                  <a:srgbClr val="000000"/>
                </a:solidFill>
                <a:latin typeface="Times New Roman"/>
              </a:rPr>
              <a:t>ijk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100" spc="-1" strike="noStrike">
                <a:solidFill>
                  <a:srgbClr val="000000"/>
                </a:solidFill>
                <a:latin typeface="Arial"/>
              </a:rPr>
              <a:t>ond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1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pt-BR" sz="31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t-BR" sz="31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pt-BR" sz="31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t-BR" sz="31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pt-BR" sz="3100" spc="-1" strike="noStrike">
                <a:solidFill>
                  <a:srgbClr val="000000"/>
                </a:solidFill>
                <a:latin typeface="Times New Roman"/>
              </a:rPr>
              <a:t> , (</a:t>
            </a:r>
            <a:r>
              <a:rPr b="0" lang="pt-BR" sz="31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pt-BR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31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t-BR" sz="31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pt-BR" sz="31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pt-BR" sz="3100" spc="-1" strike="noStrike">
                <a:solidFill>
                  <a:srgbClr val="000000"/>
                </a:solidFill>
                <a:latin typeface="Times New Roman"/>
              </a:rPr>
              <a:t> , e</a:t>
            </a:r>
            <a:r>
              <a:rPr b="0" lang="pt-BR" sz="3100" spc="-1" strike="noStrike" baseline="-25000">
                <a:solidFill>
                  <a:srgbClr val="000000"/>
                </a:solidFill>
                <a:latin typeface="Times New Roman"/>
              </a:rPr>
              <a:t>ijk </a:t>
            </a:r>
            <a:r>
              <a:rPr b="0" lang="pt-BR" sz="3100" spc="-1" strike="noStrike">
                <a:solidFill>
                  <a:srgbClr val="000000"/>
                </a:solidFill>
                <a:latin typeface="Times New Roman"/>
              </a:rPr>
              <a:t>são v.a.’s independent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1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3100" spc="-1" strike="noStrike">
                <a:solidFill>
                  <a:srgbClr val="000000"/>
                </a:solidFill>
                <a:latin typeface="Times New Roman"/>
              </a:rPr>
              <a:t>e têm distribuição normal com média zero e variâncias </a:t>
            </a:r>
            <a:r>
              <a:rPr b="0" lang="pt-BR" sz="3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1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pt-BR" sz="3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3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100" spc="-1" strike="noStrike">
                <a:solidFill>
                  <a:srgbClr val="000000"/>
                </a:solidFill>
                <a:latin typeface="Times New Roman"/>
              </a:rPr>
              <a:t> ,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1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3100" spc="-1" strike="noStrike">
                <a:solidFill>
                  <a:srgbClr val="000000"/>
                </a:solidFill>
                <a:latin typeface="Times New Roman"/>
              </a:rPr>
              <a:t>e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990720" y="5029200"/>
            <a:ext cx="6933960" cy="1076400"/>
            <a:chOff x="990720" y="5029200"/>
            <a:chExt cx="6933960" cy="1076400"/>
          </a:xfrm>
        </p:grpSpPr>
        <mc:AlternateContent>
          <mc:Choice xmlns:a14="http://schemas.microsoft.com/office/drawing/2010/main" Requires="a14">
            <p:sp>
              <p:nvSpPr>
                <p:cNvPr id="118" name=""/>
                <p:cNvSpPr txBox="1"/>
                <p:nvPr/>
              </p:nvSpPr>
              <p:spPr>
                <a:xfrm>
                  <a:off x="2362320" y="5083200"/>
                  <a:ext cx="1523880" cy="547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τ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τ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9" name=""/>
                <p:cNvSpPr txBox="1"/>
                <p:nvPr/>
              </p:nvSpPr>
              <p:spPr>
                <a:xfrm>
                  <a:off x="4191120" y="5029200"/>
                  <a:ext cx="1600200" cy="55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β</m:t>
                          </m:r>
                        </m:e>
                        <m:sub>
                          <m:r>
                            <m:t xml:space="preserve">j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β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0" name=""/>
                <p:cNvSpPr txBox="1"/>
                <p:nvPr/>
              </p:nvSpPr>
              <p:spPr>
                <a:xfrm>
                  <a:off x="6095880" y="5105520"/>
                  <a:ext cx="1828800" cy="500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[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τβ</m:t>
                      </m:r>
                      <m:sSub>
                        <m:e>
                          <m:r>
                            <m:t xml:space="preserve">)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j</m:t>
                          </m:r>
                        </m:sub>
                      </m:sSub>
                      <m:r>
                        <m:t xml:space="preserve">]</m:t>
                      </m:r>
                      <m:r>
                        <m:t xml:space="preserve">=</m:t>
                      </m:r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τβ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1" name=""/>
                <p:cNvSpPr txBox="1"/>
                <p:nvPr/>
              </p:nvSpPr>
              <p:spPr>
                <a:xfrm>
                  <a:off x="990720" y="5562720"/>
                  <a:ext cx="1600200" cy="54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ε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jk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σ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2" name=""/>
          <p:cNvSpPr/>
          <p:nvPr/>
        </p:nvSpPr>
        <p:spPr>
          <a:xfrm>
            <a:off x="7543800" y="2590920"/>
            <a:ext cx="1600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= 1, 2, ...,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 = 1, 2, ...,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 = 1, 2, ..,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EXPERIMENTO FATORIAL COM 2 FATORES A NÍVEIS ALEATÓ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371600" y="2590920"/>
            <a:ext cx="7238880" cy="2059920"/>
            <a:chOff x="1371600" y="2590920"/>
            <a:chExt cx="7238880" cy="2059920"/>
          </a:xfrm>
        </p:grpSpPr>
        <mc:AlternateContent>
          <mc:Choice xmlns:a14="http://schemas.microsoft.com/office/drawing/2010/main" Requires="a14">
            <p:sp>
              <p:nvSpPr>
                <p:cNvPr id="125" name=""/>
                <p:cNvSpPr txBox="1"/>
                <p:nvPr/>
              </p:nvSpPr>
              <p:spPr>
                <a:xfrm>
                  <a:off x="1371600" y="2590920"/>
                  <a:ext cx="6432480" cy="938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jk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τ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+</m:t>
                      </m:r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β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+</m:t>
                      </m:r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τβ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+</m:t>
                      </m:r>
                      <m:sSup>
                        <m:e>
                          <m:r>
                            <m:t xml:space="preserve">σ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126" name=""/>
            <p:cNvSpPr/>
            <p:nvPr/>
          </p:nvSpPr>
          <p:spPr>
            <a:xfrm rot="16200000">
              <a:off x="5334120" y="1599840"/>
              <a:ext cx="609480" cy="4267080"/>
            </a:xfrm>
            <a:custGeom>
              <a:avLst/>
              <a:gdLst>
                <a:gd name="textAreaLeft" fmla="*/ 389520 w 609480"/>
                <a:gd name="textAreaRight" fmla="*/ 609840 w 609480"/>
                <a:gd name="textAreaTop" fmla="*/ 111240 h 4267080"/>
                <a:gd name="textAreaBottom" fmla="*/ 4155840 h 426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505320" y="4191120"/>
              <a:ext cx="510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mponentes da variânci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EXPERIMENTO FATORIAL COM 2 FATORES A NÍVEIS ALEATÓ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póteses a serem testad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2819520" y="3200400"/>
                <a:ext cx="2590560" cy="25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H</m:t>
                        </m:r>
                        <m:r>
                          <m:t xml:space="preserve">0</m:t>
                        </m:r>
                        <m:r>
                          <m:t xml:space="preserve">: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τ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0</m:t>
                        </m:r>
                        <m:r>
                          <m:t xml:space="preserve">: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β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0</m:t>
                        </m:r>
                        <m:r>
                          <m:t xml:space="preserve">: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τβ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EXPERIMENTO FATORIAL COM 2 FATORES A NÍVEIS ALEATÓ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drados médios esperad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905120" y="2819520"/>
                <a:ext cx="5162400" cy="30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S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n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τβ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n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τ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S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n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τβ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β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n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τβ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S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24000" y="1052640"/>
            <a:ext cx="8534160" cy="32004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Esquema de um projeto fator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3532320"/>
            <a:ext cx="1170000" cy="488880"/>
          </a:xfrm>
          <a:prstGeom prst="rect">
            <a:avLst/>
          </a:prstGeom>
          <a:solidFill>
            <a:srgbClr val="3333cc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Arial"/>
              </a:rPr>
              <a:t>fator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254320" y="3041640"/>
            <a:ext cx="6051600" cy="1757160"/>
            <a:chOff x="2254320" y="3041640"/>
            <a:chExt cx="6051600" cy="1757160"/>
          </a:xfrm>
        </p:grpSpPr>
        <p:sp>
          <p:nvSpPr>
            <p:cNvPr id="47" name=""/>
            <p:cNvSpPr/>
            <p:nvPr/>
          </p:nvSpPr>
          <p:spPr>
            <a:xfrm>
              <a:off x="2644200" y="3286440"/>
              <a:ext cx="5263560" cy="12247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4390560" y="3286440"/>
              <a:ext cx="7920" cy="13201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6153120" y="3286440"/>
              <a:ext cx="7920" cy="13201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254320" y="3041640"/>
              <a:ext cx="813600" cy="50004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271600" y="3051360"/>
              <a:ext cx="779760" cy="489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ccffff"/>
                  </a:solidFill>
                  <a:latin typeface="Times New Roman"/>
                </a:rPr>
                <a:t>a</a:t>
              </a:r>
              <a:r>
                <a:rPr b="0" lang="en-US" sz="2800" spc="-1" strike="noStrike" baseline="-25000">
                  <a:solidFill>
                    <a:srgbClr val="ccffff"/>
                  </a:solidFill>
                  <a:latin typeface="Times New Roman"/>
                </a:rPr>
                <a:t>1</a:t>
              </a:r>
              <a:r>
                <a:rPr b="0" i="1" lang="en-US" sz="2800" spc="-1" strike="noStrike">
                  <a:solidFill>
                    <a:srgbClr val="ccffff"/>
                  </a:solidFill>
                  <a:latin typeface="Times New Roman"/>
                </a:rPr>
                <a:t>b</a:t>
              </a:r>
              <a:r>
                <a:rPr b="0" lang="en-US" sz="2800" spc="-1" strike="noStrike" baseline="-25000">
                  <a:solidFill>
                    <a:srgbClr val="ccff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991320" y="3074040"/>
              <a:ext cx="813600" cy="50004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008600" y="3083760"/>
              <a:ext cx="779760" cy="489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ccffff"/>
                  </a:solidFill>
                  <a:latin typeface="Times New Roman"/>
                </a:rPr>
                <a:t>a</a:t>
              </a:r>
              <a:r>
                <a:rPr b="0" lang="en-US" sz="2800" spc="-1" strike="noStrike" baseline="-25000">
                  <a:solidFill>
                    <a:srgbClr val="ccffff"/>
                  </a:solidFill>
                  <a:latin typeface="Times New Roman"/>
                </a:rPr>
                <a:t>1</a:t>
              </a:r>
              <a:r>
                <a:rPr b="0" i="1" lang="en-US" sz="2800" spc="-1" strike="noStrike">
                  <a:solidFill>
                    <a:srgbClr val="ccffff"/>
                  </a:solidFill>
                  <a:latin typeface="Times New Roman"/>
                </a:rPr>
                <a:t>b</a:t>
              </a:r>
              <a:r>
                <a:rPr b="0" lang="en-US" sz="2800" spc="-1" strike="noStrike" baseline="-25000">
                  <a:solidFill>
                    <a:srgbClr val="ccff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37680" y="3106440"/>
              <a:ext cx="813600" cy="50004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755320" y="3116160"/>
              <a:ext cx="779760" cy="489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ccffff"/>
                  </a:solidFill>
                  <a:latin typeface="Times New Roman"/>
                </a:rPr>
                <a:t>a</a:t>
              </a:r>
              <a:r>
                <a:rPr b="0" lang="en-US" sz="2800" spc="-1" strike="noStrike" baseline="-25000">
                  <a:solidFill>
                    <a:srgbClr val="ccffff"/>
                  </a:solidFill>
                  <a:latin typeface="Times New Roman"/>
                </a:rPr>
                <a:t>1</a:t>
              </a:r>
              <a:r>
                <a:rPr b="0" i="1" lang="en-US" sz="2800" spc="-1" strike="noStrike">
                  <a:solidFill>
                    <a:srgbClr val="ccffff"/>
                  </a:solidFill>
                  <a:latin typeface="Times New Roman"/>
                </a:rPr>
                <a:t>b</a:t>
              </a:r>
              <a:r>
                <a:rPr b="0" lang="en-US" sz="2800" spc="-1" strike="noStrike" baseline="-25000">
                  <a:solidFill>
                    <a:srgbClr val="ccff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492320" y="3096000"/>
              <a:ext cx="813600" cy="5004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509960" y="3106440"/>
              <a:ext cx="779760" cy="489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ccffff"/>
                  </a:solidFill>
                  <a:latin typeface="Times New Roman"/>
                </a:rPr>
                <a:t>a</a:t>
              </a:r>
              <a:r>
                <a:rPr b="0" lang="en-US" sz="2800" spc="-1" strike="noStrike" baseline="-25000">
                  <a:solidFill>
                    <a:srgbClr val="ccffff"/>
                  </a:solidFill>
                  <a:latin typeface="Times New Roman"/>
                </a:rPr>
                <a:t>1</a:t>
              </a:r>
              <a:r>
                <a:rPr b="0" i="1" lang="en-US" sz="2800" spc="-1" strike="noStrike">
                  <a:solidFill>
                    <a:srgbClr val="ccffff"/>
                  </a:solidFill>
                  <a:latin typeface="Times New Roman"/>
                </a:rPr>
                <a:t>b</a:t>
              </a:r>
              <a:r>
                <a:rPr b="0" lang="en-US" sz="2800" spc="-1" strike="noStrike" baseline="-25000">
                  <a:solidFill>
                    <a:srgbClr val="ccffff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440840" y="4256640"/>
              <a:ext cx="813600" cy="50004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458480" y="4266360"/>
              <a:ext cx="779760" cy="489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ccffff"/>
                  </a:solidFill>
                  <a:latin typeface="Times New Roman"/>
                </a:rPr>
                <a:t>a</a:t>
              </a:r>
              <a:r>
                <a:rPr b="0" lang="en-US" sz="2800" spc="-1" strike="noStrike" baseline="-25000">
                  <a:solidFill>
                    <a:srgbClr val="ccffff"/>
                  </a:solidFill>
                  <a:latin typeface="Times New Roman"/>
                </a:rPr>
                <a:t>2</a:t>
              </a:r>
              <a:r>
                <a:rPr b="0" i="1" lang="en-US" sz="2800" spc="-1" strike="noStrike">
                  <a:solidFill>
                    <a:srgbClr val="ccffff"/>
                  </a:solidFill>
                  <a:latin typeface="Times New Roman"/>
                </a:rPr>
                <a:t>b</a:t>
              </a:r>
              <a:r>
                <a:rPr b="0" lang="en-US" sz="2800" spc="-1" strike="noStrike" baseline="-25000">
                  <a:solidFill>
                    <a:srgbClr val="ccffff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711760" y="4298760"/>
              <a:ext cx="813600" cy="50004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29760" y="4308840"/>
              <a:ext cx="779760" cy="489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ccffff"/>
                  </a:solidFill>
                  <a:latin typeface="Times New Roman"/>
                </a:rPr>
                <a:t>a</a:t>
              </a:r>
              <a:r>
                <a:rPr b="0" lang="en-US" sz="2800" spc="-1" strike="noStrike" baseline="-25000">
                  <a:solidFill>
                    <a:srgbClr val="ccffff"/>
                  </a:solidFill>
                  <a:latin typeface="Times New Roman"/>
                </a:rPr>
                <a:t>2</a:t>
              </a:r>
              <a:r>
                <a:rPr b="0" i="1" lang="en-US" sz="2800" spc="-1" strike="noStrike">
                  <a:solidFill>
                    <a:srgbClr val="ccffff"/>
                  </a:solidFill>
                  <a:latin typeface="Times New Roman"/>
                </a:rPr>
                <a:t>b</a:t>
              </a:r>
              <a:r>
                <a:rPr b="0" lang="en-US" sz="2800" spc="-1" strike="noStrike" baseline="-25000">
                  <a:solidFill>
                    <a:srgbClr val="ccff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025160" y="4298760"/>
              <a:ext cx="813600" cy="50004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42440" y="4308840"/>
              <a:ext cx="779760" cy="489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ccffff"/>
                  </a:solidFill>
                  <a:latin typeface="Times New Roman"/>
                </a:rPr>
                <a:t>a</a:t>
              </a:r>
              <a:r>
                <a:rPr b="0" lang="en-US" sz="2800" spc="-1" strike="noStrike" baseline="-25000">
                  <a:solidFill>
                    <a:srgbClr val="ccffff"/>
                  </a:solidFill>
                  <a:latin typeface="Times New Roman"/>
                </a:rPr>
                <a:t>2</a:t>
              </a:r>
              <a:r>
                <a:rPr b="0" i="1" lang="en-US" sz="2800" spc="-1" strike="noStrike">
                  <a:solidFill>
                    <a:srgbClr val="ccffff"/>
                  </a:solidFill>
                  <a:latin typeface="Times New Roman"/>
                </a:rPr>
                <a:t>b</a:t>
              </a:r>
              <a:r>
                <a:rPr b="0" lang="en-US" sz="2800" spc="-1" strike="noStrike" baseline="-25000">
                  <a:solidFill>
                    <a:srgbClr val="ccff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296080" y="4233960"/>
              <a:ext cx="813600" cy="5004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313720" y="4244400"/>
              <a:ext cx="779760" cy="489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ccffff"/>
                  </a:solidFill>
                  <a:latin typeface="Times New Roman"/>
                </a:rPr>
                <a:t>a</a:t>
              </a:r>
              <a:r>
                <a:rPr b="0" lang="en-US" sz="2800" spc="-1" strike="noStrike" baseline="-25000">
                  <a:solidFill>
                    <a:srgbClr val="ccffff"/>
                  </a:solidFill>
                  <a:latin typeface="Times New Roman"/>
                </a:rPr>
                <a:t>2</a:t>
              </a:r>
              <a:r>
                <a:rPr b="0" i="1" lang="en-US" sz="2800" spc="-1" strike="noStrike">
                  <a:solidFill>
                    <a:srgbClr val="ccffff"/>
                  </a:solidFill>
                  <a:latin typeface="Times New Roman"/>
                </a:rPr>
                <a:t>b</a:t>
              </a:r>
              <a:r>
                <a:rPr b="0" lang="en-US" sz="2800" spc="-1" strike="noStrike" baseline="-25000">
                  <a:solidFill>
                    <a:srgbClr val="ccff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2525760" y="2478240"/>
            <a:ext cx="5457600" cy="0"/>
          </a:xfrm>
          <a:prstGeom prst="line">
            <a:avLst/>
          </a:prstGeom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71680" y="2266920"/>
            <a:ext cx="390600" cy="488880"/>
          </a:xfrm>
          <a:prstGeom prst="rect">
            <a:avLst/>
          </a:prstGeom>
          <a:solidFill>
            <a:srgbClr val="3333cc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Arial"/>
              </a:rPr>
              <a:t>b</a:t>
            </a:r>
            <a:r>
              <a:rPr b="0" lang="en-US" sz="2800" spc="-1" strike="noStrike" baseline="-25000">
                <a:solidFill>
                  <a:srgbClr val="ffff66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203720" y="2308320"/>
            <a:ext cx="390600" cy="488880"/>
          </a:xfrm>
          <a:prstGeom prst="rect">
            <a:avLst/>
          </a:prstGeom>
          <a:solidFill>
            <a:srgbClr val="3333cc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Arial"/>
              </a:rPr>
              <a:t>b</a:t>
            </a:r>
            <a:r>
              <a:rPr b="0" lang="en-US" sz="2800" spc="-1" strike="noStrike" baseline="-25000">
                <a:solidFill>
                  <a:srgbClr val="ffff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950080" y="2265480"/>
            <a:ext cx="390240" cy="488880"/>
          </a:xfrm>
          <a:prstGeom prst="rect">
            <a:avLst/>
          </a:prstGeom>
          <a:solidFill>
            <a:srgbClr val="3333cc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Arial"/>
              </a:rPr>
              <a:t>b</a:t>
            </a:r>
            <a:r>
              <a:rPr b="0" lang="en-US" sz="2800" spc="-1" strike="noStrike" baseline="-25000">
                <a:solidFill>
                  <a:srgbClr val="ffff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86720" y="2297160"/>
            <a:ext cx="390600" cy="490320"/>
          </a:xfrm>
          <a:prstGeom prst="rect">
            <a:avLst/>
          </a:prstGeom>
          <a:solidFill>
            <a:srgbClr val="3333cc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Arial"/>
              </a:rPr>
              <a:t>b</a:t>
            </a:r>
            <a:r>
              <a:rPr b="0" lang="en-US" sz="2800" spc="-1" strike="noStrike" baseline="-25000">
                <a:solidFill>
                  <a:srgbClr val="ffff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70040" y="3287880"/>
            <a:ext cx="0" cy="1223640"/>
          </a:xfrm>
          <a:prstGeom prst="line">
            <a:avLst/>
          </a:prstGeom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3044880"/>
            <a:ext cx="390600" cy="488880"/>
          </a:xfrm>
          <a:prstGeom prst="rect">
            <a:avLst/>
          </a:prstGeom>
          <a:solidFill>
            <a:srgbClr val="3333cc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ffff66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474920" y="4233960"/>
            <a:ext cx="388800" cy="490320"/>
          </a:xfrm>
          <a:prstGeom prst="rect">
            <a:avLst/>
          </a:prstGeom>
          <a:solidFill>
            <a:srgbClr val="3333cc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ffff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678200" y="1981080"/>
            <a:ext cx="1170000" cy="490680"/>
          </a:xfrm>
          <a:prstGeom prst="rect">
            <a:avLst/>
          </a:prstGeom>
          <a:solidFill>
            <a:srgbClr val="3333cc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Arial"/>
              </a:rPr>
              <a:t>fator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50920" y="4941360"/>
            <a:ext cx="8642160" cy="19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volvem combinações de níveis de dois ou mais fatore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da nível de um fator é ensaiado com todos os níveis dos outros fat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EXPERIMENTO FATORIAL COM 2 FATORES A NÍVEIS ALEATÓ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1828800"/>
            <a:ext cx="3048120" cy="1523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429000"/>
            <a:ext cx="3048120" cy="1523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867280" y="5029200"/>
            <a:ext cx="3048120" cy="1523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04920" y="1905120"/>
            <a:ext cx="2781360" cy="1388880"/>
            <a:chOff x="304920" y="1905120"/>
            <a:chExt cx="2781360" cy="1388880"/>
          </a:xfrm>
        </p:grpSpPr>
        <mc:AlternateContent>
          <mc:Choice xmlns:a14="http://schemas.microsoft.com/office/drawing/2010/main" Requires="a14">
            <p:sp>
              <p:nvSpPr>
                <p:cNvPr id="140" name=""/>
                <p:cNvSpPr txBox="1"/>
                <p:nvPr/>
              </p:nvSpPr>
              <p:spPr>
                <a:xfrm>
                  <a:off x="304920" y="1905120"/>
                  <a:ext cx="1447560" cy="46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0</m:t>
                      </m:r>
                      <m:r>
                        <m:t xml:space="preserve">:</m:t>
                      </m:r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τβ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1" name=""/>
                <p:cNvSpPr txBox="1"/>
                <p:nvPr/>
              </p:nvSpPr>
              <p:spPr>
                <a:xfrm>
                  <a:off x="1523880" y="2362320"/>
                  <a:ext cx="1562400" cy="93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S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B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S</m:t>
                              </m:r>
                            </m:e>
                            <m:sub>
                              <m:r>
                                <m:t xml:space="preserve">E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42" name=""/>
          <p:cNvGrpSpPr/>
          <p:nvPr/>
        </p:nvGrpSpPr>
        <p:grpSpPr>
          <a:xfrm>
            <a:off x="3200400" y="3505320"/>
            <a:ext cx="2800440" cy="1401480"/>
            <a:chOff x="3200400" y="3505320"/>
            <a:chExt cx="2800440" cy="1401480"/>
          </a:xfrm>
        </p:grpSpPr>
        <mc:AlternateContent>
          <mc:Choice xmlns:a14="http://schemas.microsoft.com/office/drawing/2010/main" Requires="a14">
            <p:sp>
              <p:nvSpPr>
                <p:cNvPr id="143" name=""/>
                <p:cNvSpPr txBox="1"/>
                <p:nvPr/>
              </p:nvSpPr>
              <p:spPr>
                <a:xfrm>
                  <a:off x="4419720" y="3962520"/>
                  <a:ext cx="1581120" cy="944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S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S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B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4" name=""/>
                <p:cNvSpPr txBox="1"/>
                <p:nvPr/>
              </p:nvSpPr>
              <p:spPr>
                <a:xfrm>
                  <a:off x="3200400" y="3505320"/>
                  <a:ext cx="1517760" cy="4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0</m:t>
                      </m:r>
                      <m:r>
                        <m:t xml:space="preserve">:</m:t>
                      </m:r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τ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45" name=""/>
          <p:cNvGrpSpPr/>
          <p:nvPr/>
        </p:nvGrpSpPr>
        <p:grpSpPr>
          <a:xfrm>
            <a:off x="5943600" y="5105520"/>
            <a:ext cx="2876400" cy="1385640"/>
            <a:chOff x="5943600" y="5105520"/>
            <a:chExt cx="2876400" cy="1385640"/>
          </a:xfrm>
        </p:grpSpPr>
        <mc:AlternateContent>
          <mc:Choice xmlns:a14="http://schemas.microsoft.com/office/drawing/2010/main" Requires="a14">
            <p:sp>
              <p:nvSpPr>
                <p:cNvPr id="146" name=""/>
                <p:cNvSpPr txBox="1"/>
                <p:nvPr/>
              </p:nvSpPr>
              <p:spPr>
                <a:xfrm>
                  <a:off x="5943600" y="5105520"/>
                  <a:ext cx="1523880" cy="517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0</m:t>
                      </m:r>
                      <m:r>
                        <m:t xml:space="preserve">:</m:t>
                      </m:r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β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7" name=""/>
                <p:cNvSpPr txBox="1"/>
                <p:nvPr/>
              </p:nvSpPr>
              <p:spPr>
                <a:xfrm>
                  <a:off x="7391520" y="5638680"/>
                  <a:ext cx="1428480" cy="852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S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S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B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304920" y="3429000"/>
                <a:ext cx="233676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3429000" y="4952880"/>
                <a:ext cx="194940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7010280" y="4419720"/>
                <a:ext cx="1797120" cy="61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EXPERIMENTO FATORIAL COM 2 FATORES A NÍVEIS ALEATÓ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imação das componentes da variânc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2819520" y="2666880"/>
                <a:ext cx="3162240" cy="386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S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  <m:e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τβ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B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S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  <m:e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β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S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B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den>
                        </m:f>
                      </m:e>
                      <m:e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τ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S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B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bn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EXPERIMENTO FATORIAL COM 2 FATORES A NÍVEIS ALEATÓ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studo de capacidade de um instrumentou ou estudo de repetibilidade e reprodutibilidade de um instrumento (R&amp;R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20 partes (a=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3 operadores (b=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2 repetições (n=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EXPERIMENTO FATORIAL COM 2 FATORES A NÍVEIS ALEATÓ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838080" y="2666880"/>
            <a:ext cx="8382240" cy="3629880"/>
            <a:chOff x="838080" y="2666880"/>
            <a:chExt cx="8382240" cy="3629880"/>
          </a:xfrm>
        </p:grpSpPr>
        <mc:AlternateContent>
          <mc:Choice xmlns:a14="http://schemas.microsoft.com/office/drawing/2010/main" Requires="a14">
            <p:sp>
              <p:nvSpPr>
                <p:cNvPr id="159" name=""/>
                <p:cNvSpPr txBox="1"/>
                <p:nvPr/>
              </p:nvSpPr>
              <p:spPr>
                <a:xfrm>
                  <a:off x="1600200" y="2666880"/>
                  <a:ext cx="6248520" cy="1059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y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=</m:t>
                      </m:r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τ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+</m:t>
                      </m:r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β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+</m:t>
                      </m:r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τβ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+</m:t>
                      </m:r>
                      <m:sSup>
                        <m:e>
                          <m:r>
                            <m:t xml:space="preserve">σ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160" name=""/>
            <p:cNvSpPr/>
            <p:nvPr/>
          </p:nvSpPr>
          <p:spPr>
            <a:xfrm>
              <a:off x="2971800" y="472428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r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86400" y="396252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teraçã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038480" y="43434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perad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010280" y="3733920"/>
              <a:ext cx="221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rro aleatóri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38080" y="5105520"/>
              <a:ext cx="1981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rte, operador e instrumen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276720" y="365760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828800" y="365760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315200" y="3581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867280" y="3657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72000" y="358128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EXPERIMENTO FATORIAL COM 2 FATORES A NÍVEIS ALEATÓ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990720" y="2971800"/>
            <a:ext cx="7162560" cy="2592360"/>
            <a:chOff x="990720" y="2971800"/>
            <a:chExt cx="7162560" cy="2592360"/>
          </a:xfrm>
        </p:grpSpPr>
        <p:grpSp>
          <p:nvGrpSpPr>
            <p:cNvPr id="173" name=""/>
            <p:cNvGrpSpPr/>
            <p:nvPr/>
          </p:nvGrpSpPr>
          <p:grpSpPr>
            <a:xfrm>
              <a:off x="990720" y="2971800"/>
              <a:ext cx="3886200" cy="2592360"/>
              <a:chOff x="990720" y="2971800"/>
              <a:chExt cx="3886200" cy="2592360"/>
            </a:xfrm>
          </p:grpSpPr>
          <mc:AlternateContent>
            <mc:Choice xmlns:a14="http://schemas.microsoft.com/office/drawing/2010/main" Requires="a14">
              <p:sp>
                <p:nvSpPr>
                  <p:cNvPr id="174" name=""/>
                  <p:cNvSpPr txBox="1"/>
                  <p:nvPr/>
                </p:nvSpPr>
                <p:spPr>
                  <a:xfrm>
                    <a:off x="1600200" y="2971800"/>
                    <a:ext cx="914400" cy="914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75" name=""/>
                  <p:cNvSpPr txBox="1"/>
                  <p:nvPr/>
                </p:nvSpPr>
                <p:spPr>
                  <a:xfrm>
                    <a:off x="990720" y="4572000"/>
                    <a:ext cx="2184120" cy="992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β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τβ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76" name=""/>
              <p:cNvSpPr/>
              <p:nvPr/>
            </p:nvSpPr>
            <p:spPr>
              <a:xfrm>
                <a:off x="3505320" y="3429000"/>
                <a:ext cx="1371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505320" y="4952880"/>
                <a:ext cx="1371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8" name=""/>
            <p:cNvSpPr/>
            <p:nvPr/>
          </p:nvSpPr>
          <p:spPr>
            <a:xfrm>
              <a:off x="5486400" y="312408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Repetibilida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62720" y="4724280"/>
              <a:ext cx="25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produtibilida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EXPERIMENTO FATORIAL COM 2 FATORES A NÍVEIS ALEATÓ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281160" y="2895480"/>
          <a:ext cx="8634240" cy="2035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160" y="2895480"/>
                    <a:ext cx="8634240" cy="203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EXPERIMENTO FATORIAL COM 2 FATORES A NÍVEIS ALEATÓ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2514600" y="2455920"/>
                <a:ext cx="4114800" cy="37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τ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62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9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1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×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e>
                      <m:e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β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1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×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15</m:t>
                        </m:r>
                      </m:e>
                      <m:e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τβ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1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  <m:e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99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EXPERIMENTO FATORIAL COM 2 FATORES A NÍVEIS ALEATÓ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380880" y="3048120"/>
          <a:ext cx="8458200" cy="1663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048120"/>
                    <a:ext cx="8458200" cy="16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EXPERIMENTO FATORIAL COM 2 FATORES A NÍVEIS ALEATÓ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39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X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Modelo reduzid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1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pt-BR" sz="3100" spc="-1" strike="noStrike" baseline="-25000">
                <a:solidFill>
                  <a:srgbClr val="000000"/>
                </a:solidFill>
                <a:latin typeface="Times New Roman"/>
              </a:rPr>
              <a:t>ijk</a:t>
            </a:r>
            <a:r>
              <a:rPr b="0" lang="pt-BR" sz="3100" spc="-1" strike="noStrike">
                <a:solidFill>
                  <a:srgbClr val="000000"/>
                </a:solidFill>
                <a:latin typeface="Times New Roman"/>
              </a:rPr>
              <a:t>  =  µ  +  </a:t>
            </a:r>
            <a:r>
              <a:rPr b="0" lang="pt-BR" sz="31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pt-BR" sz="31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t-BR" sz="3100" spc="-1" strike="noStrike">
                <a:solidFill>
                  <a:srgbClr val="000000"/>
                </a:solidFill>
                <a:latin typeface="Times New Roman"/>
              </a:rPr>
              <a:t>   +   </a:t>
            </a:r>
            <a:r>
              <a:rPr b="0" lang="pt-BR" sz="31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t-BR" sz="31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pt-BR" sz="3100" spc="-1" strike="noStrike">
                <a:solidFill>
                  <a:srgbClr val="000000"/>
                </a:solidFill>
                <a:latin typeface="Times New Roman"/>
              </a:rPr>
              <a:t>  +  e</a:t>
            </a:r>
            <a:r>
              <a:rPr b="0" lang="pt-BR" sz="3100" spc="-1" strike="noStrike" baseline="-25000">
                <a:solidFill>
                  <a:srgbClr val="000000"/>
                </a:solidFill>
                <a:latin typeface="Times New Roman"/>
              </a:rPr>
              <a:t>ijk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600880" y="4524480"/>
                <a:ext cx="3543120" cy="23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τ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62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9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8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×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e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β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1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8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×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108</m:t>
                        </m:r>
                      </m:e>
                      <m:e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8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EXPERIMENTO FATORIAL COM 2 FATORES A NÍVEIS ALEATÓ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39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X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1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685800" y="3311640"/>
                <a:ext cx="784872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strumento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β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8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108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908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990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Arial"/>
              </a:rPr>
              <a:t>Vantagens dos experimentos fatoria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2590920"/>
            <a:ext cx="784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toriais cruzados são mais econôm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toriais cruzados permitem que se avalie interaçõ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mite maior precisão para estimar os efeitos princip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13564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Arial"/>
              </a:rPr>
              <a:t>EXPERIMENTOS FATORIAIS COM FATORES MIS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MODELO MISTO COM 2 FAT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39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Fator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- A com “a” níveis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fix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- B com “b” níveis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aleatórios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380880" y="380880"/>
            <a:ext cx="8763120" cy="33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Modelo estatístic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pt-BR" sz="4400" spc="-1" strike="noStrike" baseline="-25000">
                <a:solidFill>
                  <a:srgbClr val="000000"/>
                </a:solidFill>
                <a:latin typeface="Times New Roman"/>
              </a:rPr>
              <a:t>ijk</a:t>
            </a: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  =  µ  +  </a:t>
            </a:r>
            <a:r>
              <a:rPr b="0" lang="pt-BR" sz="4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pt-BR" sz="4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   +   </a:t>
            </a:r>
            <a:r>
              <a:rPr b="0" lang="pt-BR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t-BR" sz="4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  +  (</a:t>
            </a:r>
            <a:r>
              <a:rPr b="0" lang="pt-BR" sz="4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pt-BR" sz="4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  +  e</a:t>
            </a:r>
            <a:r>
              <a:rPr b="0" lang="pt-BR" sz="4400" spc="-1" strike="noStrike" baseline="-25000">
                <a:solidFill>
                  <a:srgbClr val="000000"/>
                </a:solidFill>
                <a:latin typeface="Times New Roman"/>
              </a:rPr>
              <a:t>ij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142280" y="3657600"/>
            <a:ext cx="8002440" cy="1678680"/>
            <a:chOff x="1142280" y="3657600"/>
            <a:chExt cx="8002440" cy="1678680"/>
          </a:xfrm>
        </p:grpSpPr>
        <p:sp>
          <p:nvSpPr>
            <p:cNvPr id="202" name=""/>
            <p:cNvSpPr/>
            <p:nvPr/>
          </p:nvSpPr>
          <p:spPr>
            <a:xfrm>
              <a:off x="7251120" y="3784320"/>
              <a:ext cx="1893600" cy="8254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erro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experiment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179680" y="4876560"/>
              <a:ext cx="3207240" cy="4597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efeito de AB (aleatório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142280" y="4800600"/>
              <a:ext cx="2343240" cy="4597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efeito de A (fixo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350160" y="4012920"/>
              <a:ext cx="2988000" cy="4597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efeito de B (aleatório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724280" y="3657600"/>
              <a:ext cx="76320" cy="4572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553080" y="3809880"/>
              <a:ext cx="228600" cy="9144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153280" y="3657600"/>
              <a:ext cx="0" cy="3808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124080" y="3657600"/>
              <a:ext cx="0" cy="9903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685800" y="57913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= 1, 2, ..., 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 = 1, 2, ..., b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 = 1, 2, ..., 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MODELO MISTO COM 2 FAT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MODELO MISTO COM 2 FAT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39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685800" y="1981080"/>
            <a:ext cx="8458200" cy="2765520"/>
            <a:chOff x="685800" y="1981080"/>
            <a:chExt cx="8458200" cy="2765520"/>
          </a:xfrm>
        </p:grpSpPr>
        <mc:AlternateContent>
          <mc:Choice xmlns:a14="http://schemas.microsoft.com/office/drawing/2010/main" Requires="a14">
            <p:sp>
              <p:nvSpPr>
                <p:cNvPr id="215" name=""/>
                <p:cNvSpPr txBox="1"/>
                <p:nvPr/>
              </p:nvSpPr>
              <p:spPr>
                <a:xfrm>
                  <a:off x="685800" y="1981080"/>
                  <a:ext cx="2895480" cy="2495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nary>
                            <m:naryPr>
                              <m:chr m:val="∑"/>
                            </m:naryPr>
                            <m:sub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a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τ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nary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  <m:e>
                          <m:sSub>
                            <m:e>
                              <m:r>
                                <m:t xml:space="preserve">β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~</m:t>
                          </m:r>
                          <m:r>
                            <m:rPr>
                              <m:lit/>
                              <m:nor/>
                            </m:rPr>
                            <m:t xml:space="preserve">NIID</m:t>
                          </m:r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β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  <m:r>
                            <m:t xml:space="preserve">)</m:t>
                          </m:r>
                        </m:e>
                        <m:e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τβ</m:t>
                          </m:r>
                          <m:sSub>
                            <m:e>
                              <m:r>
                                <m:t xml:space="preserve">)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j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16" name=""/>
            <p:cNvSpPr/>
            <p:nvPr/>
          </p:nvSpPr>
          <p:spPr>
            <a:xfrm>
              <a:off x="1676520" y="3962520"/>
              <a:ext cx="6400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é uma v.a. normal com média 0 e variânci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7" name=""/>
                <p:cNvSpPr txBox="1"/>
                <p:nvPr/>
              </p:nvSpPr>
              <p:spPr>
                <a:xfrm>
                  <a:off x="7594560" y="3733920"/>
                  <a:ext cx="1549440" cy="101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f>
                            <m:num>
                              <m:r>
                                <m:t xml:space="preserve">a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a</m:t>
                              </m:r>
                            </m:den>
                          </m:f>
                        </m:e>
                      </m:d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τβ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1219320" y="4572000"/>
                <a:ext cx="396216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v</m:t>
                    </m:r>
                    <m:r>
                      <m:t xml:space="preserve">[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τβ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τβ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'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τβ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19" name=""/>
          <p:cNvSpPr/>
          <p:nvPr/>
        </p:nvSpPr>
        <p:spPr>
          <a:xfrm>
            <a:off x="380880" y="312408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0880" y="373392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3200400" y="5410080"/>
            <a:ext cx="2438280" cy="609840"/>
            <a:chOff x="3200400" y="5410080"/>
            <a:chExt cx="2438280" cy="609840"/>
          </a:xfrm>
        </p:grpSpPr>
        <p:sp>
          <p:nvSpPr>
            <p:cNvPr id="222" name=""/>
            <p:cNvSpPr/>
            <p:nvPr/>
          </p:nvSpPr>
          <p:spPr>
            <a:xfrm>
              <a:off x="3200400" y="6019920"/>
              <a:ext cx="243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3200400" y="541008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791320" y="5029200"/>
            <a:ext cx="3581280" cy="1618200"/>
            <a:chOff x="5791320" y="5029200"/>
            <a:chExt cx="3581280" cy="1618200"/>
          </a:xfrm>
        </p:grpSpPr>
        <p:sp>
          <p:nvSpPr>
            <p:cNvPr id="225" name=""/>
            <p:cNvSpPr/>
            <p:nvPr/>
          </p:nvSpPr>
          <p:spPr>
            <a:xfrm>
              <a:off x="5791320" y="5029200"/>
              <a:ext cx="2819160" cy="1600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6" name=""/>
            <p:cNvGrpSpPr/>
            <p:nvPr/>
          </p:nvGrpSpPr>
          <p:grpSpPr>
            <a:xfrm>
              <a:off x="5867280" y="5029200"/>
              <a:ext cx="3505320" cy="1618200"/>
              <a:chOff x="5867280" y="5029200"/>
              <a:chExt cx="3505320" cy="1618200"/>
            </a:xfrm>
          </p:grpSpPr>
          <p:sp>
            <p:nvSpPr>
              <p:cNvPr id="227" name=""/>
              <p:cNvSpPr/>
              <p:nvPr/>
            </p:nvSpPr>
            <p:spPr>
              <a:xfrm>
                <a:off x="5943600" y="5029200"/>
                <a:ext cx="2362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Restrição: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28" name=""/>
                  <p:cNvSpPr txBox="1"/>
                  <p:nvPr/>
                </p:nvSpPr>
                <p:spPr>
                  <a:xfrm>
                    <a:off x="5867280" y="5562720"/>
                    <a:ext cx="2400480" cy="799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τβ</m:t>
                            </m:r>
                            <m:sSub>
                              <m:e>
                                <m:r>
                                  <m:t xml:space="preserve">)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τβ</m:t>
                        </m:r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29" name=""/>
              <p:cNvSpPr/>
              <p:nvPr/>
            </p:nvSpPr>
            <p:spPr>
              <a:xfrm>
                <a:off x="7391520" y="6248520"/>
                <a:ext cx="1981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j=1,2,...,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1828800" y="5410080"/>
                <a:ext cx="6858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≠</m:t>
                    </m:r>
                    <m:r>
                      <m:t xml:space="preserve">i</m:t>
                    </m:r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MODELO MISTO COM 2 FAT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2286000" y="2293920"/>
                <a:ext cx="5181480" cy="372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S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n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τβ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bn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a</m:t>
                                </m:r>
                              </m:sup>
                              <m:e>
                                <m:sSubSup>
                                  <m:e>
                                    <m:r>
                                      <m:t xml:space="preserve">τ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e>
                            </m:nary>
                          </m:num>
                          <m:den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S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β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n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τβ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S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3" name=""/>
          <p:cNvSpPr/>
          <p:nvPr/>
        </p:nvSpPr>
        <p:spPr>
          <a:xfrm>
            <a:off x="762120" y="213372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drados médios espe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MODELO MISTO COM 2 FAT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28600" y="1828800"/>
            <a:ext cx="3048120" cy="1523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124080" y="3429000"/>
            <a:ext cx="3048120" cy="1523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5029200"/>
            <a:ext cx="3048120" cy="1523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304920" y="1905120"/>
            <a:ext cx="2781360" cy="1388880"/>
            <a:chOff x="304920" y="1905120"/>
            <a:chExt cx="2781360" cy="1388880"/>
          </a:xfrm>
        </p:grpSpPr>
        <mc:AlternateContent>
          <mc:Choice xmlns:a14="http://schemas.microsoft.com/office/drawing/2010/main" Requires="a14">
            <p:sp>
              <p:nvSpPr>
                <p:cNvPr id="240" name=""/>
                <p:cNvSpPr txBox="1"/>
                <p:nvPr/>
              </p:nvSpPr>
              <p:spPr>
                <a:xfrm>
                  <a:off x="304920" y="1905120"/>
                  <a:ext cx="1447560" cy="46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0</m:t>
                      </m:r>
                      <m:r>
                        <m:t xml:space="preserve">:</m:t>
                      </m:r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τβ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1" name=""/>
                <p:cNvSpPr txBox="1"/>
                <p:nvPr/>
              </p:nvSpPr>
              <p:spPr>
                <a:xfrm>
                  <a:off x="1523880" y="2362320"/>
                  <a:ext cx="1562400" cy="93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S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B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S</m:t>
                              </m:r>
                            </m:e>
                            <m:sub>
                              <m:r>
                                <m:t xml:space="preserve">E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42" name=""/>
          <p:cNvGrpSpPr/>
          <p:nvPr/>
        </p:nvGrpSpPr>
        <p:grpSpPr>
          <a:xfrm>
            <a:off x="3263760" y="3517920"/>
            <a:ext cx="2737080" cy="1388880"/>
            <a:chOff x="3263760" y="3517920"/>
            <a:chExt cx="2737080" cy="1388880"/>
          </a:xfrm>
        </p:grpSpPr>
        <mc:AlternateContent>
          <mc:Choice xmlns:a14="http://schemas.microsoft.com/office/drawing/2010/main" Requires="a14">
            <p:sp>
              <p:nvSpPr>
                <p:cNvPr id="243" name=""/>
                <p:cNvSpPr txBox="1"/>
                <p:nvPr/>
              </p:nvSpPr>
              <p:spPr>
                <a:xfrm>
                  <a:off x="4419720" y="3962520"/>
                  <a:ext cx="1581120" cy="944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S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S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B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4" name=""/>
                <p:cNvSpPr txBox="1"/>
                <p:nvPr/>
              </p:nvSpPr>
              <p:spPr>
                <a:xfrm>
                  <a:off x="3263760" y="3517920"/>
                  <a:ext cx="1389240" cy="46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0</m:t>
                      </m:r>
                      <m:r>
                        <m:t xml:space="preserve">:</m:t>
                      </m:r>
                      <m:sSub>
                        <m:e>
                          <m:r>
                            <m:t xml:space="preserve">τ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45" name=""/>
          <p:cNvGrpSpPr/>
          <p:nvPr/>
        </p:nvGrpSpPr>
        <p:grpSpPr>
          <a:xfrm>
            <a:off x="5943600" y="5105520"/>
            <a:ext cx="2813040" cy="1385640"/>
            <a:chOff x="5943600" y="5105520"/>
            <a:chExt cx="2813040" cy="1385640"/>
          </a:xfrm>
        </p:grpSpPr>
        <mc:AlternateContent>
          <mc:Choice xmlns:a14="http://schemas.microsoft.com/office/drawing/2010/main" Requires="a14">
            <p:sp>
              <p:nvSpPr>
                <p:cNvPr id="246" name=""/>
                <p:cNvSpPr txBox="1"/>
                <p:nvPr/>
              </p:nvSpPr>
              <p:spPr>
                <a:xfrm>
                  <a:off x="5943600" y="5105520"/>
                  <a:ext cx="1523880" cy="517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0</m:t>
                      </m:r>
                      <m:r>
                        <m:t xml:space="preserve">:</m:t>
                      </m:r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β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7" name=""/>
                <p:cNvSpPr txBox="1"/>
                <p:nvPr/>
              </p:nvSpPr>
              <p:spPr>
                <a:xfrm>
                  <a:off x="7453440" y="5638680"/>
                  <a:ext cx="1303200" cy="852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S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S</m:t>
                              </m:r>
                            </m:e>
                            <m:sub>
                              <m:r>
                                <m:t xml:space="preserve">E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304920" y="3429000"/>
                <a:ext cx="233676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3429000" y="4952880"/>
                <a:ext cx="194940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7010280" y="4419720"/>
                <a:ext cx="1797120" cy="61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MODELO MISTO COM 2 FAT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2590920" y="2743200"/>
                <a:ext cx="2971800" cy="18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sub>
                        </m:sSub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τ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5943600" y="39625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=1,2,...,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38080" y="205740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tor fixo do modelo mi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MODELO MISTO COM 2 FAT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838080" y="205740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ção das componentes da variância pelo método de análise de variâ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2819520" y="3048120"/>
                <a:ext cx="3162240" cy="33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S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  <m:e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τβ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B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S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  <m:e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β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S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S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MODELO MISTO COM 2 FAT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914400" y="1828800"/>
            <a:ext cx="7467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3 operadores (fator fix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20 partes (fator aleatóri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533520" y="3962520"/>
          <a:ext cx="8001000" cy="188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962520"/>
                    <a:ext cx="8001000" cy="18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MODELO MISTO COM 2 FAT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914400" y="1828800"/>
            <a:ext cx="7467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1600200" y="2743200"/>
                <a:ext cx="5904000" cy="30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S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99</m:t>
                        </m:r>
                      </m:e>
                      <m:e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τβ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B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S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1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  <m:e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β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S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S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62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9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×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807732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GENERALIZAÇÃO DOS PROJETOS FATORIAIS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Fator A com “a” níveis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Fator B com “b” níveis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Fator C com “c” níveis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Fator K com “k” níveis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observações por parcela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e observações-&gt; N=a*b*c*...*k*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REGRA DE HI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tições sempre são consideradas aleató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-índices divididos em 3 classes:   v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s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914400" y="1905120"/>
            <a:ext cx="7467480" cy="21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ter o quadrado médio espe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o de tabela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inha – fat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una – sub-índ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505320" y="2666880"/>
            <a:ext cx="75960" cy="914400"/>
          </a:xfrm>
          <a:custGeom>
            <a:avLst/>
            <a:gdLst>
              <a:gd name="textAreaLeft" fmla="*/ 48600 w 75960"/>
              <a:gd name="textAreaRight" fmla="*/ 76320 w 759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248520" y="4724280"/>
            <a:ext cx="75960" cy="1067040"/>
          </a:xfrm>
          <a:custGeom>
            <a:avLst/>
            <a:gdLst>
              <a:gd name="textAreaLeft" fmla="*/ 48600 w 75960"/>
              <a:gd name="textAreaRight" fmla="*/ 76320 w 7596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REGRA DE HI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914400" y="18288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tapa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1905120" y="3048120"/>
          <a:ext cx="5181480" cy="2741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048120"/>
                    <a:ext cx="5181480" cy="27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REGRA DE HI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914400" y="18288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tapa 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2057400" y="2666880"/>
          <a:ext cx="5029200" cy="2660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666880"/>
                    <a:ext cx="5029200" cy="266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REGRA DE HI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914400" y="18288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tapa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2057400" y="2819520"/>
          <a:ext cx="5033880" cy="266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819520"/>
                    <a:ext cx="5033880" cy="26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REGRA DE HI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914400" y="18288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tapa 4 – modelo aleatór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704880" y="2685960"/>
          <a:ext cx="6838920" cy="3390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2685960"/>
                    <a:ext cx="6838920" cy="33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4952880" y="3581280"/>
                <a:ext cx="2470320" cy="222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n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τβ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n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τ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  <m:e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n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τβ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β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  <m:e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n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τβ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  <m:e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REGRA DE HI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14400" y="18288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tapa 4 – modelo mi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990720" y="2666880"/>
          <a:ext cx="6705360" cy="327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666880"/>
                    <a:ext cx="670536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5105520" y="3505320"/>
                <a:ext cx="2514600" cy="23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n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τβ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bn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Sup>
                                  <m:e>
                                    <m:r>
                                      <m:t xml:space="preserve">τ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e>
                            </m:nary>
                          </m:num>
                          <m:den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  <m:e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β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  <m:e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n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τβ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  <m:e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404640"/>
            <a:ext cx="9144000" cy="22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Modelo estatístico para  3 fatores fixo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imes New Roman"/>
              </a:rPr>
              <a:t>ijk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=µ +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+        + (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+           +          +               + e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imes New Roman"/>
              </a:rPr>
              <a:t>ij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280" y="27082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= 1, 2, ..., 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 = 1, 2, ..., b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 = 1, 2, ..., 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2700360" y="1773360"/>
          <a:ext cx="560520" cy="72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1773360"/>
                    <a:ext cx="56052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4716360" y="1773360"/>
          <a:ext cx="935280" cy="785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773360"/>
                    <a:ext cx="935280" cy="78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6012000" y="1844640"/>
          <a:ext cx="865080" cy="695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12000" y="1844640"/>
                    <a:ext cx="86508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7020000" y="1916280"/>
          <a:ext cx="1152360" cy="647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020000" y="1916280"/>
                    <a:ext cx="11523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609480" y="3505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osiçõe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200400" y="3429000"/>
          <a:ext cx="3673440" cy="1066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00400" y="3429000"/>
                    <a:ext cx="367344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228600" y="4572000"/>
            <a:ext cx="86868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mportante:  - Modelo para níveis fixo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Se for significativa a interação entre os fatores, os efeitos principais perdem sua importânci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Homocedasticidade.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Hipóteses a serem testad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pt-BR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pt-BR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= ... = </a:t>
            </a:r>
            <a:r>
              <a:rPr b="0" lang="pt-BR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pt-BR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pt-BR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= ... = </a:t>
            </a:r>
            <a:r>
              <a:rPr b="0" lang="pt-BR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: (</a:t>
            </a:r>
            <a:r>
              <a:rPr b="0" lang="pt-BR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= 0   para todo i, 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ela da ANO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609480" y="1562040"/>
          <a:ext cx="7886880" cy="3543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562040"/>
                    <a:ext cx="7886880" cy="35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8209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a de quadra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395280" y="692280"/>
          <a:ext cx="8497800" cy="616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692280"/>
                    <a:ext cx="8497800" cy="61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emplo fatorial com mais de 2 fat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XEMPLO (Montgomery, 1997, p. 258): No processo de enchimento de garrafas de bebidas,  procura-se garantir pouca variação no nível de bebida colocada nas garrafas. Os principais fatores que podem causar variações no nível de enchimento s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) percentagem de CO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;   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B) pressão do enchimento  (B)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) velocidade da linha de produção (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Variável resposta: diferença entre o observado e o especifi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24T00:24:06Z</dcterms:created>
  <dc:creator>Pedro Alberto Barbetta</dc:creator>
  <dc:description/>
  <dc:language>en-US</dc:language>
  <cp:lastModifiedBy>imat</cp:lastModifiedBy>
  <dcterms:modified xsi:type="dcterms:W3CDTF">2005-08-29T17:53:46Z</dcterms:modified>
  <cp:revision>138</cp:revision>
  <dc:subject/>
  <dc:title>Projeto de experimentos fatorial</dc:title>
</cp:coreProperties>
</file>