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19E-7A59-4B1C-9E88-B9672352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A35-EFDE-4F30-BA23-90A07655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BE1-4491-4547-A393-C67E39CC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024-045C-486D-BB5E-CA39CC08E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E4A-0572-4847-90EB-A26F032C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4ABD-2CE8-4F10-ABD6-05DFF60F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964-3B45-489B-B91C-713BA9B7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0EC9-6E1F-48F8-9600-BE127B1F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2E4-3371-420B-AB91-BABE3ED0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DF3-F077-4A3A-9079-240A582C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056C-8A96-4553-8482-87C45D3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519-088A-4CE0-B9DE-5421D269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6FB7-A45B-4FB2-BD19-E876C80C2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Arial"/>
              </a:rPr>
              <a:t>PROJETO E ANÁLISE DE EXPERIM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4800600"/>
            <a:ext cx="6781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CELINO ZEMIAC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RICIA U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emplo de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A = temperatura (baixa /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 = pressão (baixa / al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07800" y="1066680"/>
            <a:ext cx="5371920" cy="2959200"/>
            <a:chOff x="307800" y="1066680"/>
            <a:chExt cx="5371920" cy="2959200"/>
          </a:xfrm>
        </p:grpSpPr>
        <p:sp>
          <p:nvSpPr>
            <p:cNvPr id="159" name=""/>
            <p:cNvSpPr/>
            <p:nvPr/>
          </p:nvSpPr>
          <p:spPr>
            <a:xfrm>
              <a:off x="1857600" y="2147760"/>
              <a:ext cx="1861920" cy="884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bf7ff"/>
                  </a:solidFill>
                  <a:latin typeface="Arial"/>
                </a:rPr>
                <a:t>Proces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bf7ff"/>
                  </a:solidFill>
                  <a:latin typeface="Arial"/>
                </a:rPr>
                <a:t>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1120" y="2563920"/>
              <a:ext cx="93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18160" y="2563920"/>
              <a:ext cx="93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800" y="1828800"/>
              <a:ext cx="138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stâ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ím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42080" y="2666880"/>
              <a:ext cx="163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ção d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30440" y="1679400"/>
              <a:ext cx="0" cy="36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874960" y="1679400"/>
              <a:ext cx="0" cy="363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35680" y="1327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30960" y="1327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3080" y="106668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fatores controlávei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200320" y="31352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592360" y="31352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230640" y="3135240"/>
              <a:ext cx="0" cy="416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40680" y="322272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80480" y="365760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variações do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05520" y="3809880"/>
            <a:ext cx="2594880" cy="2628000"/>
            <a:chOff x="5105520" y="3809880"/>
            <a:chExt cx="2594880" cy="2628000"/>
          </a:xfrm>
        </p:grpSpPr>
        <p:sp>
          <p:nvSpPr>
            <p:cNvPr id="175" name=""/>
            <p:cNvSpPr/>
            <p:nvPr/>
          </p:nvSpPr>
          <p:spPr>
            <a:xfrm flipV="1">
              <a:off x="5105520" y="3920760"/>
              <a:ext cx="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59022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68160" y="3809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7000" y="5978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5520" y="4606560"/>
              <a:ext cx="213372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05520" y="5368680"/>
              <a:ext cx="213372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715000" y="4225320"/>
              <a:ext cx="0" cy="167652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782040" y="4225320"/>
              <a:ext cx="0" cy="167652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86560" y="45687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3880" y="45687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3880" y="5321160"/>
              <a:ext cx="763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77200" y="5330520"/>
              <a:ext cx="759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emplo de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16765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A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velocidade da CPU n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25 MIPS  /  40 M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B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 velocidade da CPU na estação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1 MIPS  /  2 M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C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 número de estações de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20 / 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or D: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 número de discos no serv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(1  / 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63440" indent="-6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sta (y)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empo de resposta do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xemplo de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143000" y="1219320"/>
            <a:ext cx="6553080" cy="3433680"/>
            <a:chOff x="1143000" y="1219320"/>
            <a:chExt cx="6553080" cy="3433680"/>
          </a:xfrm>
        </p:grpSpPr>
        <p:sp>
          <p:nvSpPr>
            <p:cNvPr id="191" name=""/>
            <p:cNvSpPr/>
            <p:nvPr/>
          </p:nvSpPr>
          <p:spPr>
            <a:xfrm>
              <a:off x="1514520" y="2809800"/>
              <a:ext cx="1404720" cy="13320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1514520" y="2204640"/>
              <a:ext cx="893880" cy="6066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917800" y="2204640"/>
              <a:ext cx="893880" cy="6066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917800" y="3537000"/>
              <a:ext cx="893880" cy="604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514520" y="3537000"/>
              <a:ext cx="893880" cy="6048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8400" y="2205000"/>
              <a:ext cx="0" cy="13320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08400" y="3537000"/>
              <a:ext cx="1403280" cy="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08400" y="2205000"/>
              <a:ext cx="1403280" cy="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9880" y="2205000"/>
              <a:ext cx="1800" cy="13320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27720" y="1219320"/>
              <a:ext cx="309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38560" y="3276720"/>
              <a:ext cx="30816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3236760"/>
              <a:ext cx="3096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31000" y="4243320"/>
              <a:ext cx="369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04920" y="4181400"/>
              <a:ext cx="3700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7200" y="3881520"/>
              <a:ext cx="3747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427560" y="3757680"/>
              <a:ext cx="376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67000" y="4065480"/>
              <a:ext cx="1285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67000" y="273528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0520" y="2155680"/>
              <a:ext cx="128520" cy="1209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741840" y="2155680"/>
              <a:ext cx="128520" cy="1209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28880" y="3465360"/>
              <a:ext cx="12708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65600" y="4044960"/>
              <a:ext cx="1267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46480" y="3465360"/>
              <a:ext cx="128520" cy="122400"/>
            </a:xfrm>
            <a:prstGeom prst="ellipse">
              <a:avLst/>
            </a:prstGeom>
            <a:solidFill>
              <a:srgbClr val="00ffff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38600" y="276084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342040" y="2867040"/>
              <a:ext cx="1403280" cy="133200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342040" y="2262240"/>
              <a:ext cx="893520" cy="60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743880" y="2262240"/>
              <a:ext cx="893520" cy="60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743880" y="3594240"/>
              <a:ext cx="893520" cy="60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342040" y="3594240"/>
              <a:ext cx="893520" cy="6062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34120" y="2262240"/>
              <a:ext cx="1440" cy="13320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34120" y="3594240"/>
              <a:ext cx="1403280" cy="14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34120" y="2262240"/>
              <a:ext cx="1403280" cy="14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637400" y="2262240"/>
              <a:ext cx="0" cy="13320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92720" y="4122720"/>
              <a:ext cx="1285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92720" y="2792520"/>
              <a:ext cx="128520" cy="1220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6600" y="221292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7560" y="221292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54960" y="3524400"/>
              <a:ext cx="128520" cy="1206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1320" y="4102200"/>
              <a:ext cx="128520" cy="12204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2200" y="3524400"/>
              <a:ext cx="128520" cy="120600"/>
            </a:xfrm>
            <a:prstGeom prst="ellipse">
              <a:avLst/>
            </a:prstGeom>
            <a:solidFill>
              <a:srgbClr val="00ffff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64320" y="2817720"/>
              <a:ext cx="128520" cy="12240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743200" y="1582200"/>
              <a:ext cx="0" cy="847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3200" y="1582560"/>
              <a:ext cx="3825720" cy="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68920" y="1582560"/>
              <a:ext cx="0" cy="9684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766880" y="4670280"/>
            <a:ext cx="685800" cy="1752840"/>
          </a:xfrm>
          <a:prstGeom prst="borderCallout2">
            <a:avLst>
              <a:gd name="adj1" fmla="val 18750"/>
              <a:gd name="adj2" fmla="val -8333"/>
              <a:gd name="adj3" fmla="val 7157"/>
              <a:gd name="adj4" fmla="val -25462"/>
              <a:gd name="adj5" fmla="val -20199"/>
              <a:gd name="adj6" fmla="val -40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90760" y="4746600"/>
            <a:ext cx="685800" cy="1676520"/>
          </a:xfrm>
          <a:prstGeom prst="borderCallout2">
            <a:avLst>
              <a:gd name="adj1" fmla="val 18750"/>
              <a:gd name="adj2" fmla="val -8333"/>
              <a:gd name="adj3" fmla="val 7481"/>
              <a:gd name="adj4" fmla="val -31018"/>
              <a:gd name="adj5" fmla="val -25662"/>
              <a:gd name="adj6" fmla="val -5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Efeito de um f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7360" y="3860640"/>
            <a:ext cx="39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feitos principais (fatores com 2 níveis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2428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6720" y="4495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+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54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1480" y="44956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+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5940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785840" y="46893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3080" y="1905120"/>
            <a:ext cx="3275640" cy="1938600"/>
            <a:chOff x="4573080" y="1905120"/>
            <a:chExt cx="3275640" cy="1938600"/>
          </a:xfrm>
        </p:grpSpPr>
        <p:sp>
          <p:nvSpPr>
            <p:cNvPr id="249" name=""/>
            <p:cNvSpPr/>
            <p:nvPr/>
          </p:nvSpPr>
          <p:spPr>
            <a:xfrm>
              <a:off x="6399360" y="27900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55720" y="27900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5720" y="33408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99360" y="3340800"/>
              <a:ext cx="693000" cy="4953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525000" y="2894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2080" y="289440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2080" y="3444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25000" y="34448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25360" y="2399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82440" y="23990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3080" y="311580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89440" y="190512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9440" y="3388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59440" y="28933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04920" y="13716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 efeito de um fator é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lteração média na resposta produz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r uma mudança no nível do f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6720" y="5486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5428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160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1480" y="54864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+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9400" y="594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5943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785840" y="568008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5734080"/>
            <a:ext cx="11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8120" y="259092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962520" y="259092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2520" y="335268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3352680"/>
            <a:ext cx="8380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18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6240" y="266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624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184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1640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16040" y="26668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202200" y="1981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6240" y="19810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21480" y="29718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8520" y="1600200"/>
            <a:ext cx="125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o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8720" y="457200"/>
            <a:ext cx="84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Fatores com efeitos aditivos (sem interação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105520" y="3505320"/>
          <a:ext cx="3582720" cy="23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505320"/>
                    <a:ext cx="358272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"/>
          <p:cNvSpPr/>
          <p:nvPr/>
        </p:nvSpPr>
        <p:spPr>
          <a:xfrm>
            <a:off x="6158160" y="56800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21560" y="571500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26840" y="4876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926480" y="38862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362320" y="228600"/>
            <a:ext cx="48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cc"/>
                </a:solidFill>
                <a:latin typeface="Times New Roman"/>
              </a:rPr>
              <a:t>Interação entre fa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91080" y="4508640"/>
            <a:ext cx="3102120" cy="785520"/>
            <a:chOff x="5491080" y="4508640"/>
            <a:chExt cx="3102120" cy="785520"/>
          </a:xfrm>
        </p:grpSpPr>
        <p:sp>
          <p:nvSpPr>
            <p:cNvPr id="296" name=""/>
            <p:cNvSpPr/>
            <p:nvPr/>
          </p:nvSpPr>
          <p:spPr>
            <a:xfrm>
              <a:off x="5491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2456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59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9260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26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9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92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2616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61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9420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27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61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94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27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62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961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29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62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58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9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64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977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308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64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97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0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36444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3993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32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65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9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32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660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96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34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67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00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34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676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02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356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69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902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35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692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04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372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70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1042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37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70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03960" y="5288040"/>
              <a:ext cx="129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388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72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058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38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372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05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404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473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074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40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740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07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64208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675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70904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742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7756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08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842240" y="52880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8771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106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43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9772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10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43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0787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122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45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78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11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45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2803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138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6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80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13920" y="52880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470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819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5154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4856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82040" y="52880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491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2456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59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9260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26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59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92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2616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61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9420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27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61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94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27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62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61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9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62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958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29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64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977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308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64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97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30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6444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993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432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65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99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32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660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0096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34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67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700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34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7676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02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356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869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02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35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692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04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372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0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042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137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170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03960" y="4896000"/>
              <a:ext cx="129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2388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272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058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38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72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404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73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074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40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740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607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4208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75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0904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42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56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08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42240" y="489600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771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106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3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772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10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43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0787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122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145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78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11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245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803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138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6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489600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470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819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5154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54856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582040" y="489600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491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456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59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9260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26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9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692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2616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61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9420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27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1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94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27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5491080" y="3724200"/>
            <a:ext cx="3102120" cy="790560"/>
            <a:chOff x="5491080" y="3724200"/>
            <a:chExt cx="3102120" cy="790560"/>
          </a:xfrm>
        </p:grpSpPr>
        <p:sp>
          <p:nvSpPr>
            <p:cNvPr id="497" name=""/>
            <p:cNvSpPr/>
            <p:nvPr/>
          </p:nvSpPr>
          <p:spPr>
            <a:xfrm>
              <a:off x="5962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9961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29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62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958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129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64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977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08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64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97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30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6444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993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32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465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99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532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5660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60096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34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67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700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34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676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02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8356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869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902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35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9692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004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0372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70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042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137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170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203960" y="4508640"/>
              <a:ext cx="129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2388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72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058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38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72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05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04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73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074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540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740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607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64208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75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70904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42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756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808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842240" y="4508640"/>
              <a:ext cx="126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771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9106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43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772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10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43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0787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122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45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178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211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45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803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138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8346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413920" y="4508640"/>
              <a:ext cx="1080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470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819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5154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4856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582040" y="4508640"/>
              <a:ext cx="11160" cy="6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91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2456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59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9260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626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59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692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616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761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79420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27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61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894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27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62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961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029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62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958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29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164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977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308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297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30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36444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993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32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65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99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32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660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0096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634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67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00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734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676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02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356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69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02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935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92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04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372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070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042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37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70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03960" y="4116240"/>
              <a:ext cx="129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2388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72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058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38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72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405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404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73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5074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40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740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607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4208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675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0904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42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7756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08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42240" y="4116240"/>
              <a:ext cx="126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8771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9106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943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9772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10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43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787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1122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45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178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211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245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2803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3138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46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80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413920" y="4116240"/>
              <a:ext cx="1080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4470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4819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5154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54856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82040" y="4116240"/>
              <a:ext cx="11160" cy="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910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24560" y="3724200"/>
              <a:ext cx="126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5594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59260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6260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6595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926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26160" y="3724200"/>
              <a:ext cx="126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610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79420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76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8611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942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277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626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96160" y="3724200"/>
              <a:ext cx="108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0292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627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958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293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1642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197760" y="3724200"/>
              <a:ext cx="108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2308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2643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9748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0960" y="3724200"/>
              <a:ext cx="1116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4440" y="3724200"/>
              <a:ext cx="126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399360" y="3724200"/>
              <a:ext cx="10800" cy="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64324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465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990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532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5660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0096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6340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667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7006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6734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7676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6802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8356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6869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9022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935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9692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004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0372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070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1042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137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170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203960" y="3724200"/>
            <a:ext cx="129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2388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272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3058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338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372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405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4404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473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074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40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5740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07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64208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675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70904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742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7756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808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842240" y="3724200"/>
            <a:ext cx="126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8771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9106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43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772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8010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043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787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1122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145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178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8211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8245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2803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83138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46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413920" y="3724200"/>
            <a:ext cx="1080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4470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4819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85154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54856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582040" y="3724200"/>
            <a:ext cx="11160" cy="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491080" y="3724200"/>
            <a:ext cx="1800" cy="19573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442120" y="568152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442120" y="528804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442120" y="489600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442120" y="4508640"/>
            <a:ext cx="4896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42120" y="411624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442120" y="3724200"/>
            <a:ext cx="4896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491080" y="5681520"/>
            <a:ext cx="311328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5491080" y="5681520"/>
            <a:ext cx="180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7048440" y="5681520"/>
            <a:ext cx="180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8604360" y="5681520"/>
            <a:ext cx="1440" cy="381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6270480" y="4508280"/>
            <a:ext cx="1555920" cy="779400"/>
          </a:xfrm>
          <a:prstGeom prst="line">
            <a:avLst/>
          </a:prstGeom>
          <a:ln w="176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70480" y="4116240"/>
            <a:ext cx="1501920" cy="379440"/>
          </a:xfrm>
          <a:prstGeom prst="line">
            <a:avLst/>
          </a:prstGeom>
          <a:ln w="176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235560" y="5254560"/>
            <a:ext cx="68400" cy="68400"/>
          </a:xfrm>
          <a:custGeom>
            <a:avLst/>
            <a:gdLst/>
            <a:ahLst/>
            <a:rect l="l" t="t" r="r" b="b"/>
            <a:pathLst>
              <a:path w="43" h="43">
                <a:moveTo>
                  <a:pt x="22" y="0"/>
                </a:moveTo>
                <a:lnTo>
                  <a:pt x="43" y="21"/>
                </a:lnTo>
                <a:lnTo>
                  <a:pt x="22" y="43"/>
                </a:lnTo>
                <a:lnTo>
                  <a:pt x="0" y="21"/>
                </a:lnTo>
                <a:lnTo>
                  <a:pt x="22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92920" y="4475160"/>
            <a:ext cx="66960" cy="68400"/>
          </a:xfrm>
          <a:custGeom>
            <a:avLst/>
            <a:gdLst/>
            <a:ahLst/>
            <a:rect l="l" t="t" r="r" b="b"/>
            <a:pathLst>
              <a:path w="42" h="43">
                <a:moveTo>
                  <a:pt x="21" y="0"/>
                </a:moveTo>
                <a:lnTo>
                  <a:pt x="42" y="21"/>
                </a:lnTo>
                <a:lnTo>
                  <a:pt x="21" y="43"/>
                </a:lnTo>
                <a:lnTo>
                  <a:pt x="0" y="21"/>
                </a:lnTo>
                <a:lnTo>
                  <a:pt x="21" y="0"/>
                </a:lnTo>
                <a:close/>
              </a:path>
            </a:pathLst>
          </a:custGeom>
          <a:solidFill>
            <a:srgbClr val="ff0000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48520" y="4114800"/>
            <a:ext cx="61920" cy="6192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772400" y="4495680"/>
            <a:ext cx="61920" cy="61920"/>
          </a:xfrm>
          <a:prstGeom prst="ellipse">
            <a:avLst/>
          </a:prstGeom>
          <a:solidFill>
            <a:srgbClr val="0000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44120" y="559116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44120" y="51991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44120" y="480708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44120" y="44197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244120" y="402732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44120" y="3633840"/>
            <a:ext cx="165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5182920" y="1574640"/>
            <a:ext cx="3123000" cy="1930680"/>
            <a:chOff x="5182920" y="1574640"/>
            <a:chExt cx="3123000" cy="1930680"/>
          </a:xfrm>
        </p:grpSpPr>
        <p:sp>
          <p:nvSpPr>
            <p:cNvPr id="786" name=""/>
            <p:cNvSpPr/>
            <p:nvPr/>
          </p:nvSpPr>
          <p:spPr>
            <a:xfrm>
              <a:off x="6856560" y="23796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12200" y="23796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12200" y="29718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6560" y="2971800"/>
              <a:ext cx="693720" cy="533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98328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4072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740720" y="3030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983280" y="3030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182920" y="2717640"/>
              <a:ext cx="112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11360" y="1574640"/>
              <a:ext cx="110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402600" y="28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02240" y="2438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8364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740360" y="1905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6022080" y="57150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21920" y="5715000"/>
            <a:ext cx="5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40480" y="38098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40840" y="5029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50720" y="1066680"/>
            <a:ext cx="515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Uma interação é caracterizada qu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 efeito de um fator varia de acordo 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(s) nível(eis) do(s) outro(s) fator(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45560" y="3622680"/>
            <a:ext cx="30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nível inferior d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50 - 20 =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nível superior d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40 - 4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Projetos de experimentos fatoriais com dois fatores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(TWO-WAY ANOVA)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ão os experimentos fatoriais mais simp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tor A com “a” níveis; Fator B com “b” níve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Uma repetição completa envolve “ab” ensa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Arial"/>
              </a:rPr>
              <a:t>Matriz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380880" y="2133720"/>
          <a:ext cx="838224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38224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380880" y="380880"/>
            <a:ext cx="8763120" cy="27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</a:rPr>
              <a:t>Modelo estatístic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=  µ  +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 +  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(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  +  e</a:t>
            </a:r>
            <a:r>
              <a:rPr b="0" lang="pt-BR" sz="4400" spc="-1" strike="noStrike" baseline="-25000">
                <a:solidFill>
                  <a:srgbClr val="000000"/>
                </a:solidFill>
                <a:latin typeface="Times New Roman"/>
              </a:rPr>
              <a:t>ij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229680" y="2819520"/>
            <a:ext cx="8915040" cy="2034360"/>
            <a:chOff x="229680" y="2819520"/>
            <a:chExt cx="8915040" cy="2034360"/>
          </a:xfrm>
        </p:grpSpPr>
        <p:sp>
          <p:nvSpPr>
            <p:cNvPr id="812" name=""/>
            <p:cNvSpPr/>
            <p:nvPr/>
          </p:nvSpPr>
          <p:spPr>
            <a:xfrm>
              <a:off x="7251120" y="2946240"/>
              <a:ext cx="189360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rr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xperi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323400" y="3936960"/>
              <a:ext cx="2588760" cy="825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efeito da int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de 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3520" y="3022560"/>
              <a:ext cx="75960" cy="6091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9680" y="3708360"/>
              <a:ext cx="126576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respos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14040" y="4394160"/>
              <a:ext cx="17154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</a:rPr>
                <a:t>média ge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81080" y="3047760"/>
              <a:ext cx="152640" cy="13712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36120" y="3784320"/>
              <a:ext cx="36828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99"/>
                  </a:solidFill>
                  <a:latin typeface="Times New Roman"/>
                </a:rPr>
                <a:t>efeito do i-ésimo nível d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350520" y="3174840"/>
              <a:ext cx="3682800" cy="4597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99"/>
                  </a:solidFill>
                  <a:latin typeface="Times New Roman"/>
                </a:rPr>
                <a:t>efeito do j-ésimo nível de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24280" y="2819520"/>
              <a:ext cx="76320" cy="456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2971800"/>
              <a:ext cx="228600" cy="914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153280" y="281952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24080" y="2819520"/>
              <a:ext cx="0" cy="99036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762120" y="54864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1, 2, ...,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 = 1, 2, ..., 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1, 2, ...,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Hipóteses a serem test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y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jk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=  µ  +  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 +   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j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+  (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j</a:t>
            </a:r>
            <a:r>
              <a:rPr b="0" lang="pt-BR" sz="3200" spc="-1" strike="noStrike">
                <a:solidFill>
                  <a:srgbClr val="000099"/>
                </a:solidFill>
                <a:latin typeface="Arial"/>
              </a:rPr>
              <a:t>  +  e</a:t>
            </a:r>
            <a:r>
              <a:rPr b="0" lang="pt-BR" sz="3200" spc="-1" strike="noStrike" baseline="-25000">
                <a:solidFill>
                  <a:srgbClr val="000099"/>
                </a:solidFill>
                <a:latin typeface="Arial"/>
              </a:rPr>
              <a:t>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... =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0   para todo i,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Processo de Transform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126520" y="1773360"/>
            <a:ext cx="5925960" cy="2958840"/>
            <a:chOff x="2126520" y="1773360"/>
            <a:chExt cx="5925960" cy="2958840"/>
          </a:xfrm>
        </p:grpSpPr>
        <p:sp>
          <p:nvSpPr>
            <p:cNvPr id="45" name=""/>
            <p:cNvSpPr/>
            <p:nvPr/>
          </p:nvSpPr>
          <p:spPr>
            <a:xfrm>
              <a:off x="3676680" y="2854080"/>
              <a:ext cx="1861920" cy="884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bf7ff"/>
                  </a:solidFill>
                  <a:latin typeface="Arial"/>
                </a:rPr>
                <a:t>Proces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0200" y="3270240"/>
              <a:ext cx="93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37240" y="3270240"/>
              <a:ext cx="931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26520" y="253512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r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60080" y="3373200"/>
              <a:ext cx="219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aídas -&gt; Re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49520" y="2385720"/>
              <a:ext cx="0" cy="3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94040" y="2385720"/>
              <a:ext cx="0" cy="36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52960" y="203364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48240" y="203364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2520" y="1773360"/>
              <a:ext cx="26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Parâmetros do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4019400" y="384120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4411440" y="384120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049720" y="3841200"/>
              <a:ext cx="0" cy="41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59760" y="392904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99560" y="436392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0033"/>
                  </a:solidFill>
                  <a:latin typeface="Arial"/>
                </a:rPr>
                <a:t>variações do pro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osições da AN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99"/>
                </a:solidFill>
                <a:latin typeface="Arial"/>
              </a:rPr>
              <a:t>A ANOVA supõ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variância constante nas combinações dos níveis dos fat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independência entre os ensai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99"/>
                </a:solidFill>
                <a:latin typeface="Arial"/>
              </a:rPr>
              <a:t>distribuição normal para a variação aleat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ela da AN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990720" y="2362320"/>
          <a:ext cx="7014960" cy="249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362320"/>
                    <a:ext cx="701496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4672080" y="1160640"/>
            <a:ext cx="86184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14320" y="1143000"/>
            <a:ext cx="785880" cy="2666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8080" y="3352680"/>
            <a:ext cx="4724640" cy="53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08200" y="1143000"/>
            <a:ext cx="4754520" cy="762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85800" y="3049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álculo das somas de quadra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432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ato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fator 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mé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1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b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bn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1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1n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b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1b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11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1n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... 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bn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..y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ab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média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..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4930920" y="1905120"/>
                <a:ext cx="393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826920" y="4952880"/>
                <a:ext cx="24609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793800" y="4191120"/>
                <a:ext cx="243828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3710160" y="5105520"/>
                <a:ext cx="5038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1752480" y="15238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4930920" y="2286000"/>
                <a:ext cx="3934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4917960" y="2895480"/>
                <a:ext cx="41904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3943440" y="3352680"/>
                <a:ext cx="342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1959120" y="3352680"/>
                <a:ext cx="39348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4952880" y="3352680"/>
                <a:ext cx="34920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816120" y="5703840"/>
                <a:ext cx="24825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092560" y="4191120"/>
                <a:ext cx="34927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3832200" y="5715000"/>
            <a:ext cx="510336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 - 1       =   a -1       +   b - 1  +  (a-1)(b-1)  +   ab(n -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888360" y="6172200"/>
            <a:ext cx="897120" cy="337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 = ab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226200" y="3352680"/>
                <a:ext cx="22399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Q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09480" y="38858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029200" y="762120"/>
                <a:ext cx="3843360" cy="54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855" name=""/>
          <p:cNvGrpSpPr/>
          <p:nvPr/>
        </p:nvGrpSpPr>
        <p:grpSpPr>
          <a:xfrm>
            <a:off x="46080" y="304920"/>
            <a:ext cx="4830480" cy="2819160"/>
            <a:chOff x="46080" y="304920"/>
            <a:chExt cx="4830480" cy="2819160"/>
          </a:xfrm>
        </p:grpSpPr>
        <p:grpSp>
          <p:nvGrpSpPr>
            <p:cNvPr id="856" name=""/>
            <p:cNvGrpSpPr/>
            <p:nvPr/>
          </p:nvGrpSpPr>
          <p:grpSpPr>
            <a:xfrm>
              <a:off x="46080" y="304920"/>
              <a:ext cx="4830480" cy="2819160"/>
              <a:chOff x="46080" y="304920"/>
              <a:chExt cx="4830480" cy="2819160"/>
            </a:xfrm>
          </p:grpSpPr>
          <p:grpSp>
            <p:nvGrpSpPr>
              <p:cNvPr id="857" name=""/>
              <p:cNvGrpSpPr/>
              <p:nvPr/>
            </p:nvGrpSpPr>
            <p:grpSpPr>
              <a:xfrm>
                <a:off x="46080" y="304920"/>
                <a:ext cx="4754520" cy="2742480"/>
                <a:chOff x="46080" y="304920"/>
                <a:chExt cx="4754520" cy="2742480"/>
              </a:xfrm>
            </p:grpSpPr>
            <p:sp>
              <p:nvSpPr>
                <p:cNvPr id="858" name=""/>
                <p:cNvSpPr/>
                <p:nvPr/>
              </p:nvSpPr>
              <p:spPr>
                <a:xfrm>
                  <a:off x="3909960" y="322200"/>
                  <a:ext cx="861840" cy="26665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52200" y="304920"/>
                  <a:ext cx="785880" cy="26665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75960" y="2514240"/>
                  <a:ext cx="4724640" cy="53316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46080" y="304920"/>
                  <a:ext cx="4754520" cy="761760"/>
                </a:xfrm>
                <a:prstGeom prst="rect">
                  <a:avLst/>
                </a:prstGeom>
                <a:solidFill>
                  <a:srgbClr val="ff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990360" y="685440"/>
                  <a:ext cx="2514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" name=""/>
              <p:cNvSpPr/>
              <p:nvPr/>
            </p:nvSpPr>
            <p:spPr>
              <a:xfrm>
                <a:off x="75960" y="304920"/>
                <a:ext cx="4800600" cy="28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4000"/>
              </a:bodyPr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fator 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fator A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 1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b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som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1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11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1n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b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bn 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2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21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21n           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2b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1bn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3300"/>
                    </a:solidFill>
                    <a:latin typeface="Arial"/>
                  </a:rPr>
                  <a:t>a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11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1n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     ... 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bn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...y</a:t>
                </a:r>
                <a:r>
                  <a:rPr b="0" lang="pt-BR" sz="1600" spc="-1" strike="noStrike" baseline="-25000">
                    <a:solidFill>
                      <a:srgbClr val="000000"/>
                    </a:solidFill>
                    <a:latin typeface="Arial"/>
                  </a:rPr>
                  <a:t>abn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soma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     </a:t>
                </a: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 ...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0" lang="pt-BR" sz="16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22200" indent="-322200">
                  <a:lnSpc>
                    <a:spcPct val="11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	</a:t>
                </a:r>
                <a:r>
                  <a:rPr b="1" lang="pt-BR" sz="2000" spc="-1" strike="noStrike">
                    <a:solidFill>
                      <a:srgbClr val="a50021"/>
                    </a:solidFill>
                    <a:latin typeface="Arial"/>
                  </a:rPr>
                  <a:t>     </a:t>
                </a: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64" name=""/>
                <p:cNvSpPr txBox="1"/>
                <p:nvPr/>
              </p:nvSpPr>
              <p:spPr>
                <a:xfrm>
                  <a:off x="4168800" y="1066680"/>
                  <a:ext cx="39384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5" name=""/>
                <p:cNvSpPr txBox="1"/>
                <p:nvPr/>
              </p:nvSpPr>
              <p:spPr>
                <a:xfrm>
                  <a:off x="4168800" y="1447920"/>
                  <a:ext cx="3938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4156200" y="2057400"/>
                  <a:ext cx="4190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7" name=""/>
                <p:cNvSpPr txBox="1"/>
                <p:nvPr/>
              </p:nvSpPr>
              <p:spPr>
                <a:xfrm>
                  <a:off x="3181320" y="2514600"/>
                  <a:ext cx="3430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8" name=""/>
                <p:cNvSpPr txBox="1"/>
                <p:nvPr/>
              </p:nvSpPr>
              <p:spPr>
                <a:xfrm>
                  <a:off x="1197000" y="2514600"/>
                  <a:ext cx="3938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9" name=""/>
                <p:cNvSpPr txBox="1"/>
                <p:nvPr/>
              </p:nvSpPr>
              <p:spPr>
                <a:xfrm>
                  <a:off x="4191120" y="25146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Um estudo do tempo de vida de baterias em função dos fatores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tipo de material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e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temperatura de uso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ntgomery, 1997, p. 23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ste exemplo, quatro repetições (n=4) completas de um experimento fatorial foram realizadas em laboratório obtendo-se os dados mostrados mais a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ável resposta: Tempo de vida de baterias (em hor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tor A: Tipo de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íveis: 1, 2 e 3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a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tor B: Temperatura (º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íveis: 15, 70 e 125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b=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3967920" y="990720"/>
            <a:ext cx="29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mperatura (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33520" y="1143000"/>
            <a:ext cx="1515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94760" y="160020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7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99640" y="2533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915480" y="3962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15480" y="5257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39360" y="243828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97480" y="243828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554880" y="243828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439360" y="373392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439360" y="502920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72720" y="373392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72720" y="502920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630840" y="3733920"/>
            <a:ext cx="162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630120" y="502920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2362320"/>
            <a:ext cx="769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62120" y="609588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33520" y="99072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209680" y="1600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593080" y="228600"/>
            <a:ext cx="43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Dados do experi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Hipóteses Nula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(A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ara os três tipos de mater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ara as três tempera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3399"/>
                </a:solidFill>
                <a:latin typeface="Arial"/>
              </a:rPr>
              <a:t>0</a:t>
            </a:r>
            <a:r>
              <a:rPr b="0" lang="en-US" sz="2800" spc="-1" strike="noStrike" baseline="30000">
                <a:solidFill>
                  <a:srgbClr val="003399"/>
                </a:solidFill>
                <a:latin typeface="Arial"/>
              </a:rPr>
              <a:t>(AB)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: os tempos esperados de resposta</a:t>
            </a:r>
            <a:r>
              <a:rPr b="0" i="1" lang="en-US" sz="2800" spc="-1" strike="noStrike">
                <a:solidFill>
                  <a:srgbClr val="003399"/>
                </a:solidFill>
                <a:latin typeface="Arial"/>
              </a:rPr>
              <a:t> são iguais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 para as duas int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8001000" y="762120"/>
                <a:ext cx="606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7" name=""/>
          <p:cNvSpPr/>
          <p:nvPr/>
        </p:nvSpPr>
        <p:spPr>
          <a:xfrm>
            <a:off x="3663000" y="304920"/>
            <a:ext cx="29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emperatura (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28600" y="457200"/>
            <a:ext cx="1515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056680" y="99072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70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  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94720" y="1847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10560" y="3276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10560" y="4572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602000" y="180324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659400" y="175248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16800" y="175248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602000" y="30988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602000" y="4394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735360" y="30988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735360" y="439416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92760" y="304812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92760" y="4343400"/>
            <a:ext cx="1552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828800" y="9144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04920" y="380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04920" y="16002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772400" y="3808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520" y="65530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7772400" y="5562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6200" y="25909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34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191120" y="25909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7,2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9436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7,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906200" y="38862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55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6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1148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19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7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019920" y="3886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9,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9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906200" y="51055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44,0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191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45,7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019920" y="5105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5,5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06148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609480" y="5486400"/>
                <a:ext cx="6098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391520" y="6172200"/>
                <a:ext cx="574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1" name=""/>
          <p:cNvSpPr/>
          <p:nvPr/>
        </p:nvSpPr>
        <p:spPr>
          <a:xfrm>
            <a:off x="1905840" y="5587920"/>
            <a:ext cx="11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44,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73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39200" y="5638680"/>
            <a:ext cx="11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107,5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29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096600" y="5638680"/>
            <a:ext cx="98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64,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7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925400" y="1981080"/>
            <a:ext cx="98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83,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73120" y="3276720"/>
            <a:ext cx="116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108,3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3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73120" y="4572000"/>
            <a:ext cx="116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125,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50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773120" y="5562720"/>
            <a:ext cx="116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105,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7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2952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29600" y="1447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7848720" y="6019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914400" y="2590920"/>
                <a:ext cx="544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1600200" y="2819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a de quad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152280" y="1828800"/>
                <a:ext cx="8839440" cy="421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bn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9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a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9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30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6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38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9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0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×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91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AB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3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9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4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1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6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R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Q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B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QA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64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68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91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6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3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Q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7854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09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764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OBJETIVOS NO PROJETO DE EXPERIMENTOS: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Obter a maior quantidade de informaçã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Reduzir o trabalho/esforço de experimentaçã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Tipicamente significa o menor número de experiment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Realizar mais experimentos não é bom (gasta-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 e recursos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Experimentos bem projetados são mais fáceis 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em analisados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Arial"/>
              </a:rPr>
              <a:t>ANO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66480" y="1057320"/>
            <a:ext cx="150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n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667240" y="1066680"/>
            <a:ext cx="164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3080" y="121932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487840" y="1066680"/>
            <a:ext cx="15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dr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é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545600" y="129528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20" y="2360520"/>
            <a:ext cx="8475840" cy="31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o de mat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683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5.341,8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7,91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9.118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.559,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,97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9.613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2.403,4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,56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230,7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675,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7.64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1066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1337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5638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49528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83280" y="5867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* Significativo a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áfico de mé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380880" y="1066680"/>
          <a:ext cx="8458200" cy="535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458200" cy="535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ção múltipla de mé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o a variável resposta é do tipo “maior é melhor” e houve interação significativa entre os fatores temperatura e tipo de material, a comparação múltipla de médias será feita para a temperatura 15º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ção múltipla de méd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43000" y="2057400"/>
                <a:ext cx="64706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MR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75,21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64" name=""/>
          <p:cNvGrpSpPr/>
          <p:nvPr/>
        </p:nvGrpSpPr>
        <p:grpSpPr>
          <a:xfrm>
            <a:off x="1066680" y="3429000"/>
            <a:ext cx="7086240" cy="1838160"/>
            <a:chOff x="1066680" y="3429000"/>
            <a:chExt cx="7086240" cy="1838160"/>
          </a:xfrm>
        </p:grpSpPr>
        <mc:AlternateContent>
          <mc:Choice xmlns:a14="http://schemas.microsoft.com/office/drawing/2010/main" Requires="a14">
            <p:sp>
              <p:nvSpPr>
                <p:cNvPr id="965" name=""/>
                <p:cNvSpPr txBox="1"/>
                <p:nvPr/>
              </p:nvSpPr>
              <p:spPr>
                <a:xfrm>
                  <a:off x="1066680" y="3429000"/>
                  <a:ext cx="5625360" cy="18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5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  <m:e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55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</m:e>
                        <m:e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3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bar>
                                <m:barPr>
                                  <m:pos m:val="top"/>
                                </m:barPr>
                                <m:e>
                                  <m:r>
                                    <m:t xml:space="preserve">y</m:t>
                                  </m:r>
                                </m:e>
                              </m:ba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0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4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966" name=""/>
            <p:cNvGrpSpPr/>
            <p:nvPr/>
          </p:nvGrpSpPr>
          <p:grpSpPr>
            <a:xfrm>
              <a:off x="6911280" y="3494160"/>
              <a:ext cx="1241640" cy="1702800"/>
              <a:chOff x="6911280" y="3494160"/>
              <a:chExt cx="1241640" cy="1702800"/>
            </a:xfrm>
          </p:grpSpPr>
          <p:sp>
            <p:nvSpPr>
              <p:cNvPr id="967" name=""/>
              <p:cNvSpPr/>
              <p:nvPr/>
            </p:nvSpPr>
            <p:spPr>
              <a:xfrm>
                <a:off x="6911280" y="3494160"/>
                <a:ext cx="124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ão si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911280" y="4147560"/>
                <a:ext cx="124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ão si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911280" y="4737240"/>
                <a:ext cx="124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imes New Roman"/>
                  </a:rPr>
                  <a:t>Não sig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3276720" y="5638680"/>
                <a:ext cx="22096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1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TERMINOLOGIA</a:t>
            </a:r>
            <a:br>
              <a:rPr sz="4000"/>
            </a:br>
            <a:br>
              <a:rPr sz="4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áveis de Respos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os do produto que podem ser medidos e que permitem quantificar as características de qualidade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âmetros do process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s as variáveis que podem ser alteradas e que talvez tenham um efeito sobre as variáveis do processo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Controláv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onjunto dos parâmetros do processo; são aqueles parâmetros que foram elegidos para serem estudados a vários níveis no experimento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Constant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os parâmetros do processo que não entram no experimento e que são mantidos constantes durante o experimento.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atores Não Controláve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ão as variáveis que não podem ser controladas. São responsáveis pelo erro experimental (RUÍDO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80773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TIVIDADES DO PROCEDIMENTO EXPERIMENTAL</a:t>
            </a:r>
            <a:br>
              <a:rPr sz="3200"/>
            </a:br>
            <a:br>
              <a:rPr sz="28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ção dos objetivos do experimen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âmetros do experimen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ção dos fatores de controle e das variáveis de resposta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leção da matriz experimental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alização do experimento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álise dos dado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terpretação dos resultado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laboração de relatóri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6932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Projetos de experimentos fator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2895480"/>
            <a:ext cx="3581280" cy="2743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895480" y="2971800"/>
            <a:ext cx="3251160" cy="2637000"/>
            <a:chOff x="2895480" y="2971800"/>
            <a:chExt cx="3251160" cy="2637000"/>
          </a:xfrm>
        </p:grpSpPr>
        <p:sp>
          <p:nvSpPr>
            <p:cNvPr id="67" name=""/>
            <p:cNvSpPr/>
            <p:nvPr/>
          </p:nvSpPr>
          <p:spPr>
            <a:xfrm>
              <a:off x="4156200" y="5180040"/>
              <a:ext cx="4251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95480" y="4114800"/>
              <a:ext cx="35424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15000" y="4800600"/>
              <a:ext cx="4316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95520" y="3676680"/>
              <a:ext cx="1611360" cy="1392120"/>
            </a:xfrm>
            <a:prstGeom prst="rect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395520" y="3044520"/>
              <a:ext cx="1025640" cy="633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5006880" y="3044520"/>
              <a:ext cx="1027080" cy="633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006880" y="4435560"/>
              <a:ext cx="1027080" cy="6350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3395520" y="4435560"/>
              <a:ext cx="1025640" cy="6350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421160" y="3044880"/>
              <a:ext cx="0" cy="139068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49600" y="4452840"/>
              <a:ext cx="1611360" cy="18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21160" y="3044880"/>
              <a:ext cx="1612800" cy="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031080" y="3044520"/>
              <a:ext cx="2880" cy="1390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41520" y="49896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41520" y="359892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65720" y="29908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81680" y="297180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37120" y="436248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944960" y="49687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51320" y="4362480"/>
              <a:ext cx="147600" cy="1270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16520" y="36259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8280" y="5008680"/>
              <a:ext cx="145800" cy="126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950000" y="4268880"/>
              <a:ext cx="1458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48280" y="3619440"/>
              <a:ext cx="145800" cy="1285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48000" y="426888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8040" y="3249720"/>
              <a:ext cx="146160" cy="126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49960" y="3341520"/>
              <a:ext cx="145800" cy="128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50040" y="4638600"/>
              <a:ext cx="1458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48120" y="4638600"/>
              <a:ext cx="146160" cy="127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48080" y="3713040"/>
              <a:ext cx="146160" cy="127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49800" y="4361040"/>
              <a:ext cx="146160" cy="1267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0080" y="3713040"/>
              <a:ext cx="1458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49720" y="2971800"/>
              <a:ext cx="1461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521320" y="3365280"/>
              <a:ext cx="1440" cy="1390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944880" y="3306600"/>
              <a:ext cx="1800" cy="139248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232160" y="3642840"/>
              <a:ext cx="1800" cy="13906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157720" y="3041280"/>
              <a:ext cx="1800" cy="139068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98880" y="4730760"/>
              <a:ext cx="1611360" cy="14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24400" y="3794040"/>
              <a:ext cx="1611360" cy="180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35520" y="3354480"/>
              <a:ext cx="1612800" cy="1440"/>
            </a:xfrm>
            <a:prstGeom prst="line">
              <a:avLst/>
            </a:prstGeom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86240" y="4349880"/>
              <a:ext cx="1611360" cy="1440"/>
            </a:xfrm>
            <a:prstGeom prst="line">
              <a:avLst/>
            </a:prstGeom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172040" y="3068280"/>
              <a:ext cx="1025280" cy="63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4208400" y="4360680"/>
              <a:ext cx="1041480" cy="69372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408480" y="3797280"/>
              <a:ext cx="1025280" cy="63360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408480" y="3797280"/>
              <a:ext cx="1025280" cy="63360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971960" y="3785760"/>
              <a:ext cx="1025640" cy="6318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48040" y="4038480"/>
              <a:ext cx="150840" cy="1270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73480" y="3736800"/>
              <a:ext cx="150840" cy="1288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24560" y="4664160"/>
              <a:ext cx="149040" cy="127080"/>
            </a:xfrm>
            <a:prstGeom prst="ellipse">
              <a:avLst/>
            </a:prstGeom>
            <a:solidFill>
              <a:srgbClr val="cc3300"/>
            </a:solidFill>
            <a:ln w="6480">
              <a:solidFill>
                <a:srgbClr val="000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78200" y="3278160"/>
              <a:ext cx="14796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65560" y="4297320"/>
              <a:ext cx="147600" cy="1270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42120" y="4008600"/>
              <a:ext cx="147600" cy="12672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4233960" y="3805200"/>
              <a:ext cx="915840" cy="579600"/>
            </a:xfrm>
            <a:prstGeom prst="line">
              <a:avLst/>
            </a:prstGeom>
            <a:ln w="1260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49760" y="4002120"/>
              <a:ext cx="146160" cy="1270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8800" y="4094280"/>
              <a:ext cx="1611360" cy="1440"/>
            </a:xfrm>
            <a:prstGeom prst="line">
              <a:avLst/>
            </a:prstGeom>
            <a:ln w="648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052640"/>
            <a:ext cx="8534160" cy="3200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squema de um projeto fato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3532320"/>
            <a:ext cx="11700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54320" y="3041640"/>
            <a:ext cx="6051600" cy="1757160"/>
            <a:chOff x="2254320" y="3041640"/>
            <a:chExt cx="6051600" cy="1757160"/>
          </a:xfrm>
        </p:grpSpPr>
        <p:sp>
          <p:nvSpPr>
            <p:cNvPr id="125" name=""/>
            <p:cNvSpPr/>
            <p:nvPr/>
          </p:nvSpPr>
          <p:spPr>
            <a:xfrm>
              <a:off x="2644200" y="3286440"/>
              <a:ext cx="5263560" cy="12247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39056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153120" y="3286440"/>
              <a:ext cx="7920" cy="13201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54320" y="3041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71600" y="3051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91320" y="30740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08600" y="30837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37680" y="31064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5320" y="31161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92320" y="309600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09960" y="31064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40840" y="425664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458480" y="426636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17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2976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25160" y="4298760"/>
              <a:ext cx="813600" cy="5000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2440" y="430884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6080" y="4233960"/>
              <a:ext cx="813600" cy="50040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13720" y="4244400"/>
              <a:ext cx="779760" cy="4899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a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ccffff"/>
                  </a:solidFill>
                  <a:latin typeface="Times New Roman"/>
                </a:rPr>
                <a:t>b</a:t>
              </a:r>
              <a:r>
                <a:rPr b="0" lang="en-US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525760" y="2478240"/>
            <a:ext cx="5457600" cy="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71680" y="22669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03720" y="230832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50080" y="2265480"/>
            <a:ext cx="39024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86720" y="2297160"/>
            <a:ext cx="3906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0040" y="3287880"/>
            <a:ext cx="0" cy="1223640"/>
          </a:xfrm>
          <a:prstGeom prst="line">
            <a:avLst/>
          </a:prstGeom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4880"/>
            <a:ext cx="390600" cy="4888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74920" y="4233960"/>
            <a:ext cx="388800" cy="49032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ff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78200" y="1981080"/>
            <a:ext cx="1170000" cy="490680"/>
          </a:xfrm>
          <a:prstGeom prst="rect">
            <a:avLst/>
          </a:prstGeom>
          <a:solidFill>
            <a:srgbClr val="3333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Arial"/>
              </a:rPr>
              <a:t>fato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4941360"/>
            <a:ext cx="864216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olvem combinações de níveis de dois ou mais fator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nível de um fator é ensaiado com todos os níveis dos outros fa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Vantagens dos experimentos fatoria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590920"/>
            <a:ext cx="784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são mais econô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oriais cruzados permitem que se avalie inte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mite maior precisão para estimar os efeito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4T00:24:06Z</dcterms:created>
  <dc:creator>Pedro Alberto Barbetta</dc:creator>
  <dc:description/>
  <dc:language>en-US</dc:language>
  <cp:lastModifiedBy>imat</cp:lastModifiedBy>
  <dcterms:modified xsi:type="dcterms:W3CDTF">2005-08-29T17:52:27Z</dcterms:modified>
  <cp:revision>102</cp:revision>
  <dc:subject/>
  <dc:title>Projeto de experimentos fatorial</dc:title>
</cp:coreProperties>
</file>