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15A-737C-46E1-BA63-3C8F1476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673-B97C-4F22-A426-D9ED759E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3A66-7ACB-4200-B52B-F677E3F6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5CBC-45DC-450D-A5FF-D6371D51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68B2-490C-48AF-893D-4EA4C497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6CC4-0890-4C17-B95F-C68C58DA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5B1E-71C9-436D-BEDA-DE2BF580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543B-DA68-4BBC-8AF5-ABA2F6D2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F0BC-DFD9-4978-AD69-DE368F05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CAE5-E30C-4009-A227-26934271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9FEA-E0A1-4221-8A69-801E45A7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6BA-5D40-437D-86F5-CEAA3285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658A-B096-4B55-8B52-96075608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E868-474A-408C-B399-85FEBD6F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CCA0-DFDC-4FF9-8FD0-1EFD0235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1F3C-8905-4913-96CB-D7856972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71D2-9CB4-41E0-B161-29E7416B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CD89-827F-4059-9BC6-B6C15A28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4242-0FED-4C8F-8EEF-703CA1BA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2B1-3DCE-4F36-89AF-1965CAB3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600" y="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A45-6512-41B9-B1D5-85C07724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75D-69C2-4FFC-8701-4CEEDB5B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D99-A0D2-4949-B0D8-6CFB2574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534-1FD7-4FD9-B55C-DBA9DEAC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A820-7BF4-4D37-B23D-7255FBFB82F8}" type="slidenum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0A54-736D-4971-8BFD-4355F17D0022}" type="slidenum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imes New Roman"/>
              </a:rPr>
              <a:t>Planejamento de Experimentos: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0066ff"/>
                </a:solidFill>
                <a:latin typeface="Times New Roman"/>
              </a:rPr>
              <a:t>Confundimento no Fatorial 2</a:t>
            </a:r>
            <a:r>
              <a:rPr b="1" lang="pt-BR" sz="4000" spc="-1" strike="noStrike" baseline="30000">
                <a:solidFill>
                  <a:srgbClr val="0066ff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0020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Tahoma"/>
              </a:rPr>
              <a:t>Sabrina Letícia Couto da Silv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Tahoma"/>
              </a:rPr>
              <a:t>Marília Canabarro Zorda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00400" y="2076480"/>
          <a:ext cx="2959200" cy="196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076480"/>
                    <a:ext cx="295920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365720" y="3125880"/>
            <a:ext cx="179280" cy="190440"/>
          </a:xfrm>
          <a:prstGeom prst="flowChartConnector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68880" y="1981080"/>
            <a:ext cx="179640" cy="190800"/>
          </a:xfrm>
          <a:prstGeom prst="flowChartConnector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5720" y="1981080"/>
            <a:ext cx="179280" cy="190800"/>
          </a:xfrm>
          <a:prstGeom prst="flowChartConnector">
            <a:avLst/>
          </a:prstGeom>
          <a:solidFill>
            <a:srgbClr val="ff99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68880" y="3125880"/>
            <a:ext cx="179640" cy="190440"/>
          </a:xfrm>
          <a:prstGeom prst="flowChartConnector">
            <a:avLst/>
          </a:prstGeom>
          <a:solidFill>
            <a:srgbClr val="ff99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858000" y="1981080"/>
            <a:ext cx="999720" cy="864000"/>
            <a:chOff x="6858000" y="1981080"/>
            <a:chExt cx="999720" cy="864000"/>
          </a:xfrm>
        </p:grpSpPr>
        <p:sp>
          <p:nvSpPr>
            <p:cNvPr id="121" name=""/>
            <p:cNvSpPr/>
            <p:nvPr/>
          </p:nvSpPr>
          <p:spPr>
            <a:xfrm>
              <a:off x="6858000" y="2105280"/>
              <a:ext cx="178560" cy="17568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58000" y="2631960"/>
              <a:ext cx="178560" cy="175680"/>
            </a:xfrm>
            <a:prstGeom prst="flowChartConnector">
              <a:avLst/>
            </a:prstGeom>
            <a:solidFill>
              <a:srgbClr val="ff99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38360" y="1981080"/>
              <a:ext cx="8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6699"/>
                  </a:solidFill>
                  <a:latin typeface="Times New Roman"/>
                </a:rPr>
                <a:t>Bloco 1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38360" y="2507760"/>
              <a:ext cx="8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6699"/>
                  </a:solidFill>
                  <a:latin typeface="Times New Roman"/>
                </a:rPr>
                <a:t>Bloco 2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477800" y="1459080"/>
            <a:ext cx="34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Representação Geométrica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4159080"/>
            <a:ext cx="6629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Representação dos Blocos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(Designação das quatro replicações para 2 blocos)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352680" y="5029200"/>
            <a:ext cx="4992480" cy="1143000"/>
            <a:chOff x="3352680" y="5029200"/>
            <a:chExt cx="4992480" cy="1143000"/>
          </a:xfrm>
        </p:grpSpPr>
        <p:grpSp>
          <p:nvGrpSpPr>
            <p:cNvPr id="128" name=""/>
            <p:cNvGrpSpPr/>
            <p:nvPr/>
          </p:nvGrpSpPr>
          <p:grpSpPr>
            <a:xfrm>
              <a:off x="3352680" y="5133960"/>
              <a:ext cx="2209680" cy="961920"/>
              <a:chOff x="3352680" y="5133960"/>
              <a:chExt cx="2209680" cy="961920"/>
            </a:xfrm>
          </p:grpSpPr>
          <p:graphicFrame>
            <p:nvGraphicFramePr>
              <p:cNvPr id="129" name=""/>
              <p:cNvGraphicFramePr/>
              <p:nvPr/>
            </p:nvGraphicFramePr>
            <p:xfrm>
              <a:off x="3352680" y="5133960"/>
              <a:ext cx="990360" cy="96192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13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352680" y="5133960"/>
                        <a:ext cx="990360" cy="96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1" name=""/>
              <p:cNvGraphicFramePr/>
              <p:nvPr/>
            </p:nvGraphicFramePr>
            <p:xfrm>
              <a:off x="4571640" y="5133960"/>
              <a:ext cx="990720" cy="96192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13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571640" y="5133960"/>
                        <a:ext cx="990720" cy="96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3" name=""/>
            <p:cNvSpPr/>
            <p:nvPr/>
          </p:nvSpPr>
          <p:spPr>
            <a:xfrm>
              <a:off x="5771880" y="540684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6699"/>
                  </a:solidFill>
                  <a:latin typeface="Arial"/>
                </a:rPr>
                <a:t>Ordem randomizada!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38680" y="5029200"/>
              <a:ext cx="75960" cy="11430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1936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1476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24080" y="1752480"/>
            <a:ext cx="5624280" cy="4114440"/>
            <a:chOff x="2224080" y="1752480"/>
            <a:chExt cx="5624280" cy="4114440"/>
          </a:xfrm>
        </p:grpSpPr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2318040" y="1752480"/>
                  <a:ext cx="5248080" cy="94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feito de A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ab+a-b-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2318040" y="3347280"/>
                  <a:ext cx="5036040" cy="92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feito de B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ab+b-a-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2224080" y="4932720"/>
                  <a:ext cx="5624280" cy="93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feito de AxB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ab+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-a-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600200" y="2090880"/>
          <a:ext cx="7467480" cy="331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90880"/>
                    <a:ext cx="7467480" cy="33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Como construir os blocos?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Método de Geometria Finita (Combinação Linear)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514600" y="2514600"/>
                <a:ext cx="42480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1736640" y="3429000"/>
            <a:ext cx="740736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Onde: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x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é o nível do i-ésimo fator que aparece na combinação de tratamento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é a constante do i-ésimo fator no efeito a ser confundido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Para o sistema 2</a:t>
            </a:r>
            <a:r>
              <a:rPr b="0" lang="pt-BR" sz="2100" spc="-1" strike="noStrike" baseline="30000">
                <a:solidFill>
                  <a:srgbClr val="336699"/>
                </a:solidFill>
                <a:latin typeface="Arial"/>
              </a:rPr>
              <a:t>k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, tem-se: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=0  ou </a:t>
            </a:r>
            <a:r>
              <a:rPr b="0" lang="pt-BR" sz="21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=1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e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x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=0 (nível baixo) ou x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=1 (nível alto)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9000" y="2666880"/>
            <a:ext cx="20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6699"/>
                </a:solidFill>
                <a:latin typeface="Times New Roman"/>
              </a:rPr>
              <a:t>Contraste de Definiçã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37016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Fatorial 2</a:t>
            </a:r>
            <a:r>
              <a:rPr b="1" lang="pt-BR" sz="28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: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(Módulo 2)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Blocos com confundimento da interação </a:t>
            </a:r>
            <a:r>
              <a:rPr b="1" lang="pt-BR" sz="28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AxB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</a:t>
            </a: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 =1 e 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A,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B</a:t>
            </a:r>
            <a:r>
              <a:rPr b="1" lang="pt-BR" sz="1900" spc="-1" strike="noStrike">
                <a:solidFill>
                  <a:srgbClr val="336699"/>
                </a:solidFill>
                <a:latin typeface="Arial"/>
                <a:ea typeface="Times New Roman"/>
              </a:rPr>
              <a:t> (cada um com níveis 0 ou 1)</a:t>
            </a: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A combinação (1) é escrita da forma 0,0 na notação (0,1), assim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0) = 0 (módulo 2)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(1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0) = 1 (módulo 2)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1) = 1 (módulo 2)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b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1) = 2 = 0 (módulo 2)         ab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343400" y="1295280"/>
                <a:ext cx="31240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7848720" cy="1003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0" y="5105520"/>
            <a:ext cx="380880" cy="0"/>
          </a:xfrm>
          <a:prstGeom prst="line">
            <a:avLst/>
          </a:prstGeom>
          <a:ln cap="sq" w="1260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486400"/>
            <a:ext cx="380880" cy="0"/>
          </a:xfrm>
          <a:prstGeom prst="line">
            <a:avLst/>
          </a:prstGeom>
          <a:ln cap="sq" w="1260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5791320"/>
            <a:ext cx="380880" cy="0"/>
          </a:xfrm>
          <a:prstGeom prst="line">
            <a:avLst/>
          </a:prstGeom>
          <a:ln cap="sq" w="1260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6172200"/>
            <a:ext cx="380880" cy="0"/>
          </a:xfrm>
          <a:prstGeom prst="line">
            <a:avLst/>
          </a:prstGeom>
          <a:ln cap="sq" w="1260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53080" y="4876920"/>
            <a:ext cx="1997280" cy="13136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efefe"/>
              </a:gs>
            </a:gsLst>
            <a:lin ang="5400000"/>
          </a:gra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</a:rPr>
              <a:t>Valores iguais de L definem os componentes dos blocos!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37016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 u="sng">
                <a:solidFill>
                  <a:srgbClr val="0066ff"/>
                </a:solidFill>
                <a:uFillTx/>
                <a:latin typeface="Arial"/>
              </a:rPr>
              <a:t>Tabela de ANOVA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- S/ Confundimento: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               - C/ Confundimento de </a:t>
            </a:r>
            <a:r>
              <a:rPr b="1" lang="pt-BR" sz="2100" spc="-1" strike="noStrike">
                <a:solidFill>
                  <a:srgbClr val="0066ff"/>
                </a:solidFill>
                <a:latin typeface="Arial"/>
              </a:rPr>
              <a:t>AxB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676520" y="2895480"/>
          <a:ext cx="3124080" cy="27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895480"/>
                    <a:ext cx="312408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715000" y="2895480"/>
          <a:ext cx="2971800" cy="254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895480"/>
                    <a:ext cx="297180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4479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ff"/>
                </a:solidFill>
                <a:latin typeface="Arial"/>
                <a:ea typeface="Times New Roman"/>
              </a:rPr>
              <a:t>(b) Fatorial 2</a:t>
            </a:r>
            <a:r>
              <a:rPr b="1" lang="pt-BR" sz="28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3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7315200" cy="2771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981080" y="4697280"/>
                <a:ext cx="6553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eito de A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-b+ab-c+ac-bc+ab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0052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057400" y="5688000"/>
                <a:ext cx="60199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eito de ABC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+b+c+abc-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b-ac-b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Fatorial 2</a:t>
            </a:r>
            <a:r>
              <a:rPr b="1" lang="pt-BR" sz="2400" spc="-1" strike="noStrike" baseline="30000">
                <a:solidFill>
                  <a:srgbClr val="336699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Blocos com confundimento da interação </a:t>
            </a:r>
            <a:r>
              <a:rPr b="1" lang="pt-BR" sz="28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AxBxC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</a:t>
            </a: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 = </a:t>
            </a: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3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  = 1 e 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A,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B e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3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 = C</a:t>
            </a:r>
            <a:r>
              <a:rPr b="1" lang="pt-BR" sz="1900" spc="-1" strike="noStrike">
                <a:solidFill>
                  <a:srgbClr val="336699"/>
                </a:solidFill>
                <a:latin typeface="Arial"/>
                <a:ea typeface="Times New Roman"/>
              </a:rPr>
              <a:t> (cada um com níveis 0 ou 1)</a:t>
            </a: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A combinação (1) é escrita da forma 0,0,0 na notação (0,1), assim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0)+1(0) = 0 (módulo 2)   (1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0)+ 1(0) = 1 (módulo 2)  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1)+ 1(0) = 1 (módulo 2)  b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24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905280" y="1287360"/>
                <a:ext cx="4095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09680" y="2498760"/>
            <a:ext cx="8458200" cy="184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419720" y="2468520"/>
            <a:ext cx="92962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74720" y="1523880"/>
            <a:ext cx="739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1)+1(0) = 2= 0 (módulo 2)  ab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0)+1(1) = 1 (módulo 2)  c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0)+1(1) = 2= 0 (módulo 2)  ac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1)+1(1) = 2= 0 (módulo 2)  bc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1)+1(1) = 3= 1 (módulo 2)  abc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BLOCO 1: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 (1), AB, AC e BC (valores ZERO na soma)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BLOCO 2: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 A, B, C e ABC (valores UM na soma)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 u="sng">
                <a:solidFill>
                  <a:srgbClr val="0066ff"/>
                </a:solidFill>
                <a:uFillTx/>
                <a:latin typeface="Arial"/>
              </a:rPr>
              <a:t>Tabela de ANOVA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- S/ Confundimento: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- C/ Confundimento de </a:t>
            </a:r>
            <a:r>
              <a:rPr b="1" lang="pt-BR" sz="2100" spc="-1" strike="noStrike">
                <a:solidFill>
                  <a:srgbClr val="0066ff"/>
                </a:solidFill>
                <a:latin typeface="Arial"/>
              </a:rPr>
              <a:t>AxBxC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905120" y="2438280"/>
          <a:ext cx="27637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2763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638680" y="2448000"/>
          <a:ext cx="2762280" cy="3724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448000"/>
                    <a:ext cx="27622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Introdução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4360" y="1905120"/>
            <a:ext cx="7164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Há situações em que é impossível realizar todas as repetições num experimento fatorial em um único bloco;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66ff"/>
                </a:solidFill>
                <a:latin typeface="Arial"/>
              </a:rPr>
              <a:t>CONFUNDIMENTO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 é a técnica empregada na organização de delineamentos para experimentos fatoriais, possibilitando obter maior precisão nas comparações mais importantes, pelo sacrifício de outras, menos relevante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11592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268280"/>
            <a:ext cx="7522920" cy="26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 u="sng">
                <a:solidFill>
                  <a:srgbClr val="0066ff"/>
                </a:solidFill>
                <a:uFillTx/>
                <a:latin typeface="Arial"/>
              </a:rPr>
              <a:t>Estimativa do Erro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Quando o n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Arial"/>
              </a:rPr>
              <a:t>° de fatores é pequeno (k = 2 ou 3), é usual replicar o experimento a fim de obter uma estimativa para o erro.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Arial"/>
              </a:rPr>
              <a:t>Por exemplo, suponha que um Fatorial 2</a:t>
            </a:r>
            <a:r>
              <a:rPr b="0" lang="pt-BR" sz="2100" spc="-1" strike="noStrike" baseline="30000">
                <a:solidFill>
                  <a:srgbClr val="336699"/>
                </a:solidFill>
                <a:latin typeface="Arial"/>
                <a:ea typeface="Arial"/>
              </a:rPr>
              <a:t>3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Arial"/>
              </a:rPr>
              <a:t> seja realizado em 2 blocos com ABC confundida e o experimentador decide replicar o experimento em 4 tempos.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03280" y="4365720"/>
            <a:ext cx="76676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5240" y="189000"/>
            <a:ext cx="8169480" cy="60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 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267920"/>
            <a:ext cx="380988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ff"/>
                </a:solidFill>
                <a:latin typeface="Arial"/>
              </a:rPr>
              <a:t>Tabela de ANOVA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124000" y="2492280"/>
            <a:ext cx="6768720" cy="3097080"/>
            <a:chOff x="2124000" y="2492280"/>
            <a:chExt cx="6768720" cy="3097080"/>
          </a:xfrm>
        </p:grpSpPr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2124000" y="2492280"/>
              <a:ext cx="451188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6459840" y="2812320"/>
              <a:ext cx="75600" cy="636480"/>
            </a:xfrm>
            <a:custGeom>
              <a:avLst/>
              <a:gdLst>
                <a:gd name="textAreaLeft" fmla="*/ 48240 w 75600"/>
                <a:gd name="textAreaRight" fmla="*/ 75960 w 75600"/>
                <a:gd name="textAreaTop" fmla="*/ 16560 h 636480"/>
                <a:gd name="textAreaBottom" fmla="*/ 619920 h 63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57840" y="2796480"/>
              <a:ext cx="163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99"/>
                  </a:solidFill>
                  <a:latin typeface="Times New Roman"/>
                </a:rPr>
                <a:t>BLOCOS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99"/>
                  </a:solidFill>
                  <a:latin typeface="Times New Roman"/>
                </a:rPr>
                <a:t>2r – 1= 2x4 - 1=6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6382800" y="5190120"/>
              <a:ext cx="608040" cy="136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15960" y="4726080"/>
              <a:ext cx="1976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99"/>
                  </a:solidFill>
                  <a:latin typeface="Times New Roman"/>
                </a:rPr>
                <a:t>ERRO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99"/>
                  </a:solidFill>
                  <a:latin typeface="Times New Roman"/>
                </a:rPr>
                <a:t>6 (r – 1) = 6x3=18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26680" y="5030280"/>
              <a:ext cx="456120" cy="319680"/>
            </a:xfrm>
            <a:prstGeom prst="ellipse">
              <a:avLst/>
            </a:prstGeom>
            <a:noFill/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49280" y="2717280"/>
              <a:ext cx="533160" cy="796320"/>
            </a:xfrm>
            <a:prstGeom prst="ellipse">
              <a:avLst/>
            </a:prstGeom>
            <a:noFill/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619280" y="1531800"/>
            <a:ext cx="7197840" cy="456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336699"/>
                </a:solidFill>
                <a:uFillTx/>
                <a:latin typeface="Arial"/>
              </a:rPr>
              <a:t>Exemplo</a:t>
            </a: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: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 Uma indústria de refrigerantes está estudando o efeito da porcentagem de gaseificação (Fator A), pressão de operação no enchimento (Fator B) e velocidade da esteira (Fator C), no volume de bebida gaseificada embalada em cada garrafa. Um experimento fatorial com dois níveis de gaseificação, pressão e velocidade, com 2 repetições foi realizad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Na organização do experimento foram definidos blocos de 4 unidades, confundindo a interação ABC nas duas repetiçõe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155240" y="189000"/>
            <a:ext cx="8169480" cy="60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 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99308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 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336699"/>
                </a:solidFill>
                <a:latin typeface="Arial"/>
              </a:rPr>
              <a:t>Os dados obtidos foram:</a:t>
            </a:r>
            <a:endParaRPr b="1" lang="en-US" sz="23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63640" y="2719440"/>
            <a:ext cx="69120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4920" y="189000"/>
            <a:ext cx="7885080" cy="60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 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58064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** significativo a 1%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08000" y="1197000"/>
            <a:ext cx="8388360" cy="3673440"/>
            <a:chOff x="1008000" y="1197000"/>
            <a:chExt cx="8388360" cy="367344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1008000" y="1197000"/>
              <a:ext cx="8388360" cy="36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8317080" y="2133360"/>
              <a:ext cx="826920" cy="1081080"/>
            </a:xfrm>
            <a:prstGeom prst="ellipse">
              <a:avLst/>
            </a:prstGeom>
            <a:noFill/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449360" y="5089680"/>
            <a:ext cx="729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Repetições= [62 + 102]/8 – (16)2/16= 1.00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Blocos = [22 + 42 + 42 + 62]/4 - (16)2/16 = 2.00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Blocos dentro de Repetições = SQBlocos – SQRepetições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2.00 – 1.00 = 1.00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252360" y="333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Confundimento Fatorial 2</a:t>
            </a:r>
            <a:r>
              <a:rPr b="1" lang="pt-BR" sz="2400" spc="-1" strike="noStrike" baseline="30000">
                <a:solidFill>
                  <a:srgbClr val="0000ff"/>
                </a:solidFill>
                <a:latin typeface="Arial"/>
              </a:rPr>
              <a:t>k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em 4 bloc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484280"/>
            <a:ext cx="8424720" cy="34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Método 1 (Contrastes)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66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Confunde um Efeito Fatorial, reduzindo o tamanho do bloco a ½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66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Confunde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outro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efeito fatorial reduzindo o tamanho do bloco a ¼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ff"/>
                </a:solidFill>
                <a:uFillTx/>
                <a:latin typeface="Arial"/>
              </a:rPr>
              <a:t>Cuidado!</a:t>
            </a: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Na escolha dos efeitos pode provocar o confundimento de um terceiro efeito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95280" y="404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62200" y="1252440"/>
            <a:ext cx="8281800" cy="37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Fatorial 2</a:t>
            </a:r>
            <a:r>
              <a:rPr b="1" lang="pt-BR" sz="2000" spc="-1" strike="noStrike" baseline="40000">
                <a:solidFill>
                  <a:srgbClr val="336699"/>
                </a:solidFill>
                <a:latin typeface="Arial"/>
              </a:rPr>
              <a:t>3 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( 8 tratamentos) : confunde o  1° efeito  fatorial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2 blocos </a:t>
            </a:r>
            <a:r>
              <a:rPr b="1" lang="pt-BR" sz="2000" spc="-1" strike="noStrike">
                <a:solidFill>
                  <a:srgbClr val="336699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1)</a:t>
            </a: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 Confundindo AxBxC para se ter blocos com 4 tratamentos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419640" y="1809720"/>
          <a:ext cx="2016000" cy="395280"/>
        </p:xfrm>
        <a:graphic>
          <a:graphicData uri="http://schemas.openxmlformats.org/drawingml/2006/table">
            <a:tbl>
              <a:tblPr/>
              <a:tblGrid>
                <a:gridCol w="593640"/>
                <a:gridCol w="750960"/>
                <a:gridCol w="671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-324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908000" y="3933720"/>
          <a:ext cx="6840360" cy="1236600"/>
        </p:xfrm>
        <a:graphic>
          <a:graphicData uri="http://schemas.openxmlformats.org/drawingml/2006/table">
            <a:tbl>
              <a:tblPr/>
              <a:tblGrid>
                <a:gridCol w="839520"/>
                <a:gridCol w="843120"/>
                <a:gridCol w="839880"/>
                <a:gridCol w="841320"/>
                <a:gridCol w="1131840"/>
                <a:gridCol w="585720"/>
                <a:gridCol w="587520"/>
                <a:gridCol w="585720"/>
                <a:gridCol w="585720"/>
              </a:tblGrid>
              <a:tr h="758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000" spc="-1" strike="noStrike" baseline="-30000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000" spc="-1" strike="noStrike" baseline="-30000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250920" y="223920"/>
          <a:ext cx="8569080" cy="5025960"/>
        </p:xfrm>
        <a:graphic>
          <a:graphicData uri="http://schemas.openxmlformats.org/drawingml/2006/table">
            <a:tbl>
              <a:tblPr/>
              <a:tblGrid>
                <a:gridCol w="2198520"/>
                <a:gridCol w="795240"/>
                <a:gridCol w="797040"/>
                <a:gridCol w="795240"/>
                <a:gridCol w="797040"/>
                <a:gridCol w="797040"/>
                <a:gridCol w="796680"/>
                <a:gridCol w="655920"/>
                <a:gridCol w="936360"/>
              </a:tblGrid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ombinação de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Efeito Fatorial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Tratamento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-108000" y="5445000"/>
            <a:ext cx="91440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AB...K = (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±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1) (b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±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1)...(k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±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1)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O que não entrar na interação recebe “+”, o que entrar “-”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(a-1)(b+1)(c+1) = (ab + a – b – 1)(c + 1) = abc + ab + ac + a – bc – b – c – 1</a:t>
            </a:r>
            <a:r>
              <a:rPr b="0" lang="pt-BR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4000" y="44280"/>
            <a:ext cx="82803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Confundindo um 2° efeito fatorial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2)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Confundindo AxB para se ter blocos  com 2 tratamentos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484360" y="563400"/>
          <a:ext cx="4537080" cy="13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563400"/>
                    <a:ext cx="4537080" cy="13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11280" y="2349360"/>
          <a:ext cx="7489800" cy="2944800"/>
        </p:xfrm>
        <a:graphic>
          <a:graphicData uri="http://schemas.openxmlformats.org/drawingml/2006/table">
            <a:tbl>
              <a:tblPr/>
              <a:tblGrid>
                <a:gridCol w="734760"/>
                <a:gridCol w="514440"/>
                <a:gridCol w="488880"/>
                <a:gridCol w="757440"/>
                <a:gridCol w="623880"/>
                <a:gridCol w="627120"/>
                <a:gridCol w="623880"/>
                <a:gridCol w="623880"/>
                <a:gridCol w="623880"/>
                <a:gridCol w="623880"/>
                <a:gridCol w="623880"/>
                <a:gridCol w="6238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99"/>
                      </a:solidFill>
                    </a:lnR>
                    <a:lnT>
                      <a:noFill/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1 </a:t>
                      </a: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2 </a:t>
                      </a: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3 </a:t>
                      </a: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2 </a:t>
                      </a: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(1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x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x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79280" y="5430960"/>
            <a:ext cx="864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Confundindo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AxBxC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p/ ½ </a:t>
            </a:r>
            <a:r>
              <a:rPr b="1" lang="pt-BR" sz="20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Confundindo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AxB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p/ ¼ </a:t>
            </a:r>
            <a:r>
              <a:rPr b="1" lang="pt-BR" sz="20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principal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também está confundido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AxBxC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X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AxB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=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95280" y="549360"/>
            <a:ext cx="842472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Método 2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° Escolher DOIS efeitos para gerar os bloco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Por exemplo, para 2</a:t>
            </a:r>
            <a:r>
              <a:rPr b="1" lang="pt-BR" sz="2000" spc="-1" strike="noStrike" baseline="30000">
                <a:solidFill>
                  <a:srgbClr val="336699"/>
                </a:solidFill>
                <a:latin typeface="Arial"/>
              </a:rPr>
              <a:t>5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, confundir: ADE e BCE 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AxDxE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X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BxCxE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=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ABCD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2° Construir o bloco principal através das relaçõe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L</a:t>
            </a:r>
            <a:r>
              <a:rPr b="1" lang="pt-BR" sz="20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= X</a:t>
            </a:r>
            <a:r>
              <a:rPr b="1" lang="pt-BR" sz="20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+ X</a:t>
            </a:r>
            <a:r>
              <a:rPr b="1" lang="pt-BR" sz="2000" spc="-1" strike="noStrike" baseline="-25000">
                <a:solidFill>
                  <a:srgbClr val="336699"/>
                </a:solidFill>
                <a:latin typeface="Arial"/>
              </a:rPr>
              <a:t>4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+ X</a:t>
            </a:r>
            <a:r>
              <a:rPr b="1" lang="pt-BR" sz="2000" spc="-1" strike="noStrike" baseline="-25000">
                <a:solidFill>
                  <a:srgbClr val="336699"/>
                </a:solidFill>
                <a:latin typeface="Arial"/>
              </a:rPr>
              <a:t>5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= 0 , 1 (módulo 2)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L</a:t>
            </a:r>
            <a:r>
              <a:rPr b="1" lang="pt-BR" sz="20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= X</a:t>
            </a:r>
            <a:r>
              <a:rPr b="1" lang="pt-BR" sz="20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+ X</a:t>
            </a:r>
            <a:r>
              <a:rPr b="1" lang="pt-BR" sz="2000" spc="-1" strike="noStrike" baseline="-25000">
                <a:solidFill>
                  <a:srgbClr val="336699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+ X</a:t>
            </a:r>
            <a:r>
              <a:rPr b="1" lang="pt-BR" sz="2000" spc="-1" strike="noStrike" baseline="-25000">
                <a:solidFill>
                  <a:srgbClr val="336699"/>
                </a:solidFill>
                <a:latin typeface="Arial"/>
              </a:rPr>
              <a:t>5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= 0 , 1 (módulo 2)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3° Usar a propriedade do bloco principal para construir os demais bloco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1. Confundimento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4720" y="1523520"/>
            <a:ext cx="7088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a) Definiçã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Quando 2 ou mais efeitos não podem ser estimados independentemente, diz-se que estão confundido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336699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Técnica para arranjar um fatorial completo em blocos, onde o tamanho dos blocos é menor do que o n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° de 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tratamento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b) Tipos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Completo (total):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o mesmo efeito fatorial é confundido   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      em todas as repetiçõe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Parcial: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efeitos fatoriais diferentes são confundidos 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  nas diferentes repetiçõe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395280" y="1052640"/>
          <a:ext cx="8424720" cy="4392360"/>
        </p:xfrm>
        <a:graphic>
          <a:graphicData uri="http://schemas.openxmlformats.org/drawingml/2006/table">
            <a:tbl>
              <a:tblPr/>
              <a:tblGrid>
                <a:gridCol w="2106720"/>
                <a:gridCol w="2106360"/>
                <a:gridCol w="2105280"/>
                <a:gridCol w="210636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(0,0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(1,0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(0,1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(1,1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>
                      <a:noFill/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loco 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loco 2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loco 3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loco 4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>
                      <a:noFill/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1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(1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d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bcd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b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c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d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d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cd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bd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cd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bd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cd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bc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cd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d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c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bcd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d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d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d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>
                      <a:noFill/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03280" y="260280"/>
            <a:ext cx="8893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ff"/>
                </a:solidFill>
                <a:latin typeface="Arial"/>
              </a:rPr>
              <a:t>Confundimento no Fatorial 2</a:t>
            </a:r>
            <a:r>
              <a:rPr b="1" lang="pt-BR" sz="2300" spc="-1" strike="noStrike" baseline="30000">
                <a:solidFill>
                  <a:srgbClr val="0000ff"/>
                </a:solidFill>
                <a:latin typeface="Arial"/>
              </a:rPr>
              <a:t>k</a:t>
            </a:r>
            <a:r>
              <a:rPr b="1" lang="pt-BR" sz="2300" spc="-1" strike="noStrike">
                <a:solidFill>
                  <a:srgbClr val="0000ff"/>
                </a:solidFill>
                <a:latin typeface="Arial"/>
              </a:rPr>
              <a:t> em 2</a:t>
            </a:r>
            <a:r>
              <a:rPr b="1" lang="pt-BR" sz="2300" spc="-1" strike="noStrike" baseline="30000">
                <a:solidFill>
                  <a:srgbClr val="0000ff"/>
                </a:solidFill>
                <a:latin typeface="Arial"/>
              </a:rPr>
              <a:t>p</a:t>
            </a:r>
            <a:r>
              <a:rPr b="1" lang="pt-BR" sz="2300" spc="-1" strike="noStrike">
                <a:solidFill>
                  <a:srgbClr val="0000ff"/>
                </a:solidFill>
                <a:latin typeface="Arial"/>
              </a:rPr>
              <a:t> blocos de 2</a:t>
            </a:r>
            <a:r>
              <a:rPr b="1" lang="pt-BR" sz="2300" spc="-1" strike="noStrike" baseline="30000">
                <a:solidFill>
                  <a:srgbClr val="0000ff"/>
                </a:solidFill>
                <a:latin typeface="Arial"/>
              </a:rPr>
              <a:t>k-p</a:t>
            </a:r>
            <a:r>
              <a:rPr b="1" lang="pt-BR" sz="2300" spc="-1" strike="noStrike">
                <a:solidFill>
                  <a:srgbClr val="0000ff"/>
                </a:solidFill>
                <a:latin typeface="Arial"/>
              </a:rPr>
              <a:t> elementos </a:t>
            </a:r>
            <a:endParaRPr b="0" lang="en-US" sz="23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1052640"/>
            <a:ext cx="835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° Escolher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efeitos para gerar os blocos, automaticamente confundidos com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(2</a:t>
            </a:r>
            <a:r>
              <a:rPr b="1" lang="pt-BR" sz="2000" spc="-1" strike="noStrike" baseline="30000">
                <a:solidFill>
                  <a:srgbClr val="0000ff"/>
                </a:solidFill>
                <a:latin typeface="Arial"/>
              </a:rPr>
              <a:t>p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- p - 1)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interações generalizadas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2° Construir o bloco principal ( aquele que contém o tratamento (1)) através das relações de definição L1, L2, ..., Lp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3° Usar propriedades do bloco principal para construir os demais blocos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imes New Roman"/>
              </a:rPr>
              <a:t>Planejamento de Experimentos: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0066ff"/>
                </a:solidFill>
                <a:latin typeface="Times New Roman"/>
              </a:rPr>
              <a:t>Confundimento no Fatorial 2</a:t>
            </a:r>
            <a:r>
              <a:rPr b="1" lang="pt-BR" sz="4000" spc="-1" strike="noStrike" baseline="30000">
                <a:solidFill>
                  <a:srgbClr val="0066ff"/>
                </a:solidFill>
                <a:latin typeface="Times New Roman"/>
              </a:rPr>
              <a:t>k</a:t>
            </a:r>
            <a:br>
              <a:rPr sz="4000"/>
            </a:br>
            <a:br>
              <a:rPr sz="4000"/>
            </a:br>
            <a:r>
              <a:rPr b="1" lang="pt-BR" sz="4000" spc="-1" strike="noStrike" u="sng">
                <a:solidFill>
                  <a:srgbClr val="c489ff"/>
                </a:solidFill>
                <a:uFillTx/>
                <a:latin typeface="Times New Roman"/>
              </a:rPr>
              <a:t>Exemplo 8.2 feito no SA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90512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Tahoma"/>
              </a:rPr>
              <a:t>Sabrina Letícia Couto da Silv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Tahoma"/>
              </a:rPr>
              <a:t>Marília Canabarro Zorda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br>
              <a:rPr sz="4000"/>
            </a:br>
            <a:r>
              <a:rPr b="1" lang="pt-BR" sz="2300" spc="-1" strike="noStrike">
                <a:solidFill>
                  <a:srgbClr val="336699"/>
                </a:solidFill>
                <a:latin typeface="Times New Roman"/>
              </a:rPr>
              <a:t>(Montgomery, 4a. Edição – págs. 361- 363)</a:t>
            </a:r>
            <a:endParaRPr b="0" lang="en-US" sz="23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440" y="1523880"/>
            <a:ext cx="7316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Considere a situação: (exemplo 7.2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Um produto químico é produzido em um recipiente pressurizado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Um experimento fatorial foi realizado numa planta piloto para estudar os fatores de influência na </a:t>
            </a:r>
            <a:r>
              <a:rPr b="1" lang="pt-BR" sz="2400" spc="-1" strike="noStrike">
                <a:solidFill>
                  <a:srgbClr val="0066ff"/>
                </a:solidFill>
                <a:latin typeface="Arial"/>
              </a:rPr>
              <a:t>taxa de filtração desse produto (var. resposta)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Os 4 fatores são: temperatura (A), pressão (B), conc. de formaldeído ( C) e taxa de agitação (D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Cada fator tem 2 níveis. Esse experimento será utilizado para ilustrar as idéias de </a:t>
            </a:r>
            <a:r>
              <a:rPr b="1" i="1" lang="pt-BR" sz="2400" spc="-1" strike="noStrike">
                <a:solidFill>
                  <a:srgbClr val="336699"/>
                </a:solidFill>
                <a:latin typeface="Arial"/>
              </a:rPr>
              <a:t>bloqueamento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 e </a:t>
            </a:r>
            <a:r>
              <a:rPr b="1" i="1" lang="pt-BR" sz="2400" spc="-1" strike="noStrike">
                <a:solidFill>
                  <a:srgbClr val="336699"/>
                </a:solidFill>
                <a:latin typeface="Arial"/>
              </a:rPr>
              <a:t>confundimento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 em um experimento sem repetição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676520" y="1768320"/>
          <a:ext cx="7238880" cy="488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68320"/>
                    <a:ext cx="7238880" cy="48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1523520" y="11430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Times New Roman"/>
              </a:rPr>
              <a:t>Dados do exemplo 7.2: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09480" y="990720"/>
          <a:ext cx="838224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83822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8458200" y="53352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5562720"/>
            <a:ext cx="482724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Times New Roman"/>
              </a:rPr>
              <a:t>Bloco 1: (1), ab, ac, bc, ad, bd, cd, abcd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Times New Roman"/>
              </a:rPr>
              <a:t>Bloco 2: a, b, c, d, abc, bcd, acd, abd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752480" y="14475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Serão efetuadas 2 modificações no experimento original (exemplo 7.2)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66ff"/>
                </a:solidFill>
                <a:latin typeface="Arial"/>
              </a:rPr>
              <a:t>Primeira Modificaçã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Suponha que as 16 combinações de tratamentos não podem ser todas testadas utilizando o mesmo lote de matéria-prima. O experimentador só pode testar 8 combinações por lote. Sendo assim, um delineamento 2</a:t>
            </a:r>
            <a:r>
              <a:rPr b="0" lang="pt-BR" sz="2200" spc="-1" strike="noStrike" baseline="30000">
                <a:solidFill>
                  <a:srgbClr val="336699"/>
                </a:solidFill>
                <a:latin typeface="Arial"/>
                <a:ea typeface="Arial"/>
              </a:rPr>
              <a:t>4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 em 2 blocos (lotes como blocos) parece adequad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370160" y="1447560"/>
            <a:ext cx="73166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66ff"/>
                </a:solidFill>
                <a:latin typeface="Arial"/>
              </a:rPr>
              <a:t>Segunda Modificaçã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Iremos introduzir um efeito de bloco, de modo que essa utilidade do bloqueamento poderá ser demonstrada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Vamos supor que ao selecionar 2 lotes de matéria-prima para realizar o experimento um deles é de qualidade muito inferior e como resultado, os tratamentos submetidos a esse lote produzem uma resposta (taxa de filtração) inferior em 20 unidades. O lote de qualidade inferior será o BLOCO1 (Bloco Principal) e o de melhor qualidade será o BLOCO2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98400" y="1523520"/>
            <a:ext cx="6249960" cy="381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Blocos formados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3048120" cy="2676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523880" y="5029200"/>
            <a:ext cx="76201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</a:rPr>
              <a:t>Por exemplo, a resposta original da testemunha (1) era 45, mas como está no Bloco 1, a resposta resultante após o bloqueamento (efeito de bloco) será dada por: </a:t>
            </a:r>
            <a:r>
              <a:rPr b="1" lang="pt-BR" sz="2000" spc="-1" strike="noStrike">
                <a:solidFill>
                  <a:srgbClr val="336699"/>
                </a:solidFill>
                <a:latin typeface="Times New Roman"/>
              </a:rPr>
              <a:t>(1) = 45 – 20 = 25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</a:rPr>
              <a:t>Segue da mesma forma para os demais tratamentos do Bloco 1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5920" y="33336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66"/>
                </a:solidFill>
                <a:latin typeface="Arial"/>
              </a:rPr>
              <a:t>Confundimento Parcial – 2</a:t>
            </a:r>
            <a:r>
              <a:rPr b="0" lang="pt-BR" sz="3200" spc="-1" strike="noStrike" baseline="30000">
                <a:solidFill>
                  <a:srgbClr val="ff0066"/>
                </a:solidFill>
                <a:latin typeface="Arial"/>
              </a:rPr>
              <a:t>k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1989000"/>
            <a:ext cx="828036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99"/>
                </a:solidFill>
                <a:latin typeface="Arial"/>
              </a:rPr>
              <a:t>Definição: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Quando várias repetições são usadas, e quando em todas as repetições, é confundida </a:t>
            </a:r>
            <a:r>
              <a:rPr b="1" lang="pt-BR" sz="2000" spc="-1" strike="noStrike">
                <a:solidFill>
                  <a:srgbClr val="ff3399"/>
                </a:solidFill>
                <a:latin typeface="Arial"/>
              </a:rPr>
              <a:t>sempre a  mesma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comparação, dizemos que o </a:t>
            </a:r>
            <a:r>
              <a:rPr b="1" lang="pt-BR" sz="2000" spc="-1" strike="noStrike">
                <a:solidFill>
                  <a:srgbClr val="ff3399"/>
                </a:solidFill>
                <a:latin typeface="Arial"/>
              </a:rPr>
              <a:t>confundimento é total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Quando há repetições, existe a possibilidade de se usar o  confundimento parcial, que consiste em cada repetição, confundir um </a:t>
            </a:r>
            <a:r>
              <a:rPr b="1" lang="pt-BR" sz="2000" spc="-1" strike="noStrike">
                <a:solidFill>
                  <a:srgbClr val="ff3399"/>
                </a:solidFill>
                <a:latin typeface="Arial"/>
              </a:rPr>
              <a:t>efeito fatorial diferente.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674360" y="1676160"/>
            <a:ext cx="71643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c) Vantagens no us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Redução do erro experimental, com uso de blocos homogêneo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-281160" algn="just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Eliminação de interações de ordem superior que, em geral, não tem significado prátic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d) Desvantagem no us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-281160" algn="just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Maior complexidade nos cálculos 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1. Confundimento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5092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119700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No fatorial 2</a:t>
            </a:r>
            <a:r>
              <a:rPr b="1" lang="pt-BR" sz="2000" spc="-1" strike="noStrike" baseline="30000">
                <a:solidFill>
                  <a:srgbClr val="336699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, usando-se 4 repetições pode-se confundir, ABC na 1ª, AB na 2ª, AC  na 3ª e BC na 4ª, e assim teríamos o seguinte esquema: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24000" y="2421000"/>
          <a:ext cx="8424720" cy="1245960"/>
        </p:xfrm>
        <a:graphic>
          <a:graphicData uri="http://schemas.openxmlformats.org/drawingml/2006/table">
            <a:tbl>
              <a:tblPr/>
              <a:tblGrid>
                <a:gridCol w="645120"/>
                <a:gridCol w="393840"/>
                <a:gridCol w="507600"/>
                <a:gridCol w="506160"/>
                <a:gridCol w="261360"/>
                <a:gridCol w="522000"/>
                <a:gridCol w="463320"/>
                <a:gridCol w="430560"/>
                <a:gridCol w="502920"/>
                <a:gridCol w="216000"/>
                <a:gridCol w="607320"/>
                <a:gridCol w="430560"/>
                <a:gridCol w="501480"/>
                <a:gridCol w="502920"/>
                <a:gridCol w="181800"/>
                <a:gridCol w="202680"/>
                <a:gridCol w="261000"/>
                <a:gridCol w="275400"/>
                <a:gridCol w="506160"/>
                <a:gridCol w="506520"/>
              </a:tblGrid>
              <a:tr h="45972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Repetição  I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Repetição  II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 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 2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 3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 4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24000" y="4149720"/>
          <a:ext cx="8351640" cy="1246320"/>
        </p:xfrm>
        <a:graphic>
          <a:graphicData uri="http://schemas.openxmlformats.org/drawingml/2006/table">
            <a:tbl>
              <a:tblPr/>
              <a:tblGrid>
                <a:gridCol w="574560"/>
                <a:gridCol w="460440"/>
                <a:gridCol w="503280"/>
                <a:gridCol w="502920"/>
                <a:gridCol w="260640"/>
                <a:gridCol w="260280"/>
                <a:gridCol w="258840"/>
                <a:gridCol w="274680"/>
                <a:gridCol w="502920"/>
                <a:gridCol w="503280"/>
                <a:gridCol w="260640"/>
                <a:gridCol w="518760"/>
                <a:gridCol w="270000"/>
                <a:gridCol w="500040"/>
                <a:gridCol w="635040"/>
                <a:gridCol w="260280"/>
                <a:gridCol w="260280"/>
                <a:gridCol w="258840"/>
                <a:gridCol w="273240"/>
                <a:gridCol w="504720"/>
                <a:gridCol w="507960"/>
              </a:tblGrid>
              <a:tr h="45972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Repetição  III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Repetição  IV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 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 6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 7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 8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24000" y="189000"/>
            <a:ext cx="8424720" cy="64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0066"/>
                </a:solidFill>
                <a:latin typeface="Arial"/>
              </a:rPr>
              <a:t>*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Posição dos blocos  dentro da repetição e os tratamentos dentro dos blocos incompletos = SORTEIO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*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Os efeitos A, B e C são totalmente  livres do efeito de blocos.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*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Na repetição I, ABC é totalmente confundida com blocos, mas nas repetições II, III e IV, é ortogonal a blocos. Assim sendo, a estimativa dentro do bloco, para ABC, pode ser obtida das repetições II, III e IV, o mesmo acontecendo com AB, nas repetições I, III e IV, AC em I, II e IV e BC em I, II e III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*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Uma estimativa, livre do efeito de blocos, ainda pode ser obtida para cada efeito confundido, somente baseada em um nº menor de repetições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**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A, B e C = 4 repetiçõe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**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 ABC, AB, AC e BC = 3 repetiçõe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0066"/>
                </a:solidFill>
                <a:latin typeface="Arial"/>
              </a:rPr>
              <a:t>*</a:t>
            </a: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 Os efeitos parcialmente confundidos, são estimados com menor precisão em relação aos demais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03640" y="2089080"/>
            <a:ext cx="1439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7 </a:t>
            </a:r>
            <a:r>
              <a:rPr b="0" lang="pt-BR" sz="2000" spc="-1" strike="noStrike">
                <a:solidFill>
                  <a:srgbClr val="336699"/>
                </a:solidFill>
                <a:latin typeface="Symbol"/>
                <a:ea typeface="Symbol"/>
              </a:rPr>
              <a:t></a:t>
            </a: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2r-1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’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’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’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’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7 </a:t>
            </a:r>
            <a:r>
              <a:rPr b="0" lang="pt-BR" sz="2000" spc="-1" strike="noStrike">
                <a:solidFill>
                  <a:srgbClr val="336699"/>
                </a:solidFill>
                <a:latin typeface="Symbol"/>
                <a:ea typeface="Symbol"/>
              </a:rPr>
              <a:t></a:t>
            </a:r>
            <a:r>
              <a:rPr b="0" lang="pt-BR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995640" y="4508640"/>
                <a:ext cx="15130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57" name=""/>
          <p:cNvGraphicFramePr/>
          <p:nvPr/>
        </p:nvGraphicFramePr>
        <p:xfrm>
          <a:off x="684360" y="1700280"/>
          <a:ext cx="7561080" cy="4129200"/>
        </p:xfrm>
        <a:graphic>
          <a:graphicData uri="http://schemas.openxmlformats.org/drawingml/2006/table">
            <a:tbl>
              <a:tblPr/>
              <a:tblGrid>
                <a:gridCol w="2376360"/>
                <a:gridCol w="5184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ausas da Variação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GL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s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Erro Experimental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4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755640" y="765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ANOV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62164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6699"/>
                </a:solidFill>
                <a:latin typeface="Arial"/>
              </a:rPr>
              <a:t>1’ = parcialmente confundidos.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50920" y="189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Efeitos Fatoriai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44360" y="1206360"/>
                <a:ext cx="8820360" cy="243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QA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SQB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SQC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de r=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AB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SQAC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SQBC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SQABC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de</m:t>
                        </m:r>
                        <m:r>
                          <m:rPr>
                            <m:lit/>
                            <m:nor/>
                          </m:rPr>
                          <m:t xml:space="preserve"> r=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539640" y="424008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SQ Blocos, SQ Total  e SQ Erro Experimental, são obtidas de 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maneira análoga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, ao confundimento total.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24000" y="18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Exemplo Básic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836640"/>
            <a:ext cx="860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Considerando o uso de blocos de 4 unidades confundindo-se a interação ABC na repetição 1 e AB na repetição 2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50920" y="2394000"/>
          <a:ext cx="3887640" cy="1971720"/>
        </p:xfrm>
        <a:graphic>
          <a:graphicData uri="http://schemas.openxmlformats.org/drawingml/2006/table">
            <a:tbl>
              <a:tblPr/>
              <a:tblGrid>
                <a:gridCol w="1143000"/>
                <a:gridCol w="1809720"/>
                <a:gridCol w="93492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(1)= -3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 = 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 =2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epetição I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 = -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 =2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(ABC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= -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  = 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 =6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427640" y="2349360"/>
          <a:ext cx="4105080" cy="2016360"/>
        </p:xfrm>
        <a:graphic>
          <a:graphicData uri="http://schemas.openxmlformats.org/drawingml/2006/table">
            <a:tbl>
              <a:tblPr/>
              <a:tblGrid>
                <a:gridCol w="1152360"/>
                <a:gridCol w="2087640"/>
                <a:gridCol w="86508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(1)= -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 =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c = 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Repetição II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 = 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 = 3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(AB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 = 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  = 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 = 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324000" y="333360"/>
          <a:ext cx="8424720" cy="5983200"/>
        </p:xfrm>
        <a:graphic>
          <a:graphicData uri="http://schemas.openxmlformats.org/drawingml/2006/table">
            <a:tbl>
              <a:tblPr/>
              <a:tblGrid>
                <a:gridCol w="3274920"/>
                <a:gridCol w="1549440"/>
                <a:gridCol w="1368360"/>
                <a:gridCol w="136836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Fonte de Variação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Soma de Quadrado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Graus de Liberdad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Quadrado Médio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pt-BR" sz="2000" spc="-1" strike="noStrike" baseline="-30000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Repetiçõe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3366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locos dentro de Repetiçõe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2.5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Percentagem de Gaseificação (A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36.0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36.0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48.00</a:t>
                      </a: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Pressão (B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20.2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20.2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27.00</a:t>
                      </a: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Velocidade da Esteira (C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2.2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2.2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6.33</a:t>
                      </a: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(repetição 1 somente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67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33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BC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.33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ABC(repetição 2 somente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67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Erro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3.7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0.7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78.00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2. Precisão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9047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A maior precisão decorre, da formação de blocos menores, com 1/2, 1/3 ou 1/4 apenas do n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°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de combinações de tratamentos, de um bloco complet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A formação desses blocos incompletos, implica no confundimento através das diferenças entre blocos, de certos efeitos fatoriais, geralmente as interações de ordem mais elevada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74360" y="1752120"/>
            <a:ext cx="6783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A escolha da comparação, que deverá ser sacrificada, depende de  considerações de ordem prática.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Em alguns experimentos, a medição da interação é o objetivo principal, existindo pouco interesse na medição dos efeitos principais, portanto, nesses casos, um ou mais efeitos principais poderão ser confundidos. 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2. Precisão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3. Confundimento no Fatorial 2</a:t>
            </a:r>
            <a:r>
              <a:rPr b="1" lang="pt-BR" sz="4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- Esquemas de confundimento mais simples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- Blocos Incompletos de tamanhos 2, 4, 8, ..., 2</a:t>
            </a:r>
            <a:r>
              <a:rPr b="0" lang="pt-BR" sz="2200" spc="-1" strike="noStrike" baseline="45000">
                <a:solidFill>
                  <a:srgbClr val="336699"/>
                </a:solidFill>
                <a:latin typeface="Arial"/>
                <a:ea typeface="Times New Roman"/>
              </a:rPr>
              <a:t>p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(p&lt;k)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3340080"/>
            <a:ext cx="6302160" cy="19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3.1. Confundimento no Fatorial 2</a:t>
            </a:r>
            <a:r>
              <a:rPr b="1" lang="pt-BR" sz="2400" spc="-1" strike="noStrike" u="sng" baseline="30000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k </a:t>
            </a:r>
            <a:r>
              <a:rPr b="1" lang="pt-BR" sz="2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em 2 bloc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.2. Confundimento no Fatorial 2</a:t>
            </a:r>
            <a:r>
              <a:rPr b="1" lang="pt-BR" sz="24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m 4 bloc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.3. Confundimento no Fatorial 2</a:t>
            </a:r>
            <a:r>
              <a:rPr b="1" lang="pt-BR" sz="24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m 2</a:t>
            </a:r>
            <a:r>
              <a:rPr b="1" lang="pt-BR" sz="2400" spc="-1" strike="noStrike" baseline="50000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bloc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23520" y="17521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ff"/>
                </a:solidFill>
                <a:latin typeface="Arial"/>
                <a:ea typeface="Times New Roman"/>
              </a:rPr>
              <a:t>Fatorial 2</a:t>
            </a:r>
            <a:r>
              <a:rPr b="1" lang="pt-BR" sz="28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2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SITUAÇÃO PROBLEMA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Suponha que tenhamos um delineamento Fatorial 2</a:t>
            </a:r>
            <a:r>
              <a:rPr b="0" lang="pt-BR" sz="22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2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com 1 repetição e cada combinação de tratamentos (4) requer uma quantidade de matéria-prima, mas cada lote de matéria-prima só é suficiente para testar 2 combinações de tratamento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2440" y="1600200"/>
            <a:ext cx="746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2 lotes serão necessários para realizar o experimento;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Se os lotes de matéria-prima forem considerados como blocos, devemos classificar 2 das 4 combinações de tratamentos como pertencentes a cada bloc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EXEMPL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733920" y="4648320"/>
          <a:ext cx="251460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4648320"/>
                    <a:ext cx="25146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9:00:27Z</dcterms:created>
  <dc:creator>Sabrina Letícia Couto da Silva</dc:creator>
  <dc:description/>
  <dc:language>en-US</dc:language>
  <cp:lastModifiedBy>Marilia</cp:lastModifiedBy>
  <dcterms:modified xsi:type="dcterms:W3CDTF">2005-09-28T23:24:31Z</dcterms:modified>
  <cp:revision>10</cp:revision>
  <dc:subject/>
  <dc:title>Planejamento de Experimentos:  Confundimento no Fatorial 2k</dc:title>
</cp:coreProperties>
</file>