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665-F541-42BE-A69F-A2B541C3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2C9E-DC8C-44A8-A71E-98FB5922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6B28-D18C-42D2-A4A6-1AFAEC61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49B1-E07A-4094-A69D-AF56678C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AA1B-12BD-43E3-8CF4-C22983BF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27E1-C8A1-40B5-8E32-FC04781F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A4B9-AA37-41E4-847F-E7B04932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3888-58B4-4FD1-ABE7-387E1A31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EF99-D78B-4891-9A74-B6090D4C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E24E-FBD9-4CCB-B6DE-721D71D0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F6A3-73E3-4352-BCE5-24AA40EA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0A3-60AF-4F74-9E23-754BB78C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97F4-B866-4A8F-AB84-A64B11DC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663E-6CAD-4634-A55E-911D90CB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52EC-4190-4AA4-8179-3C9CF545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023B-7AF5-453A-A8EC-A6498DED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272D-1727-4D61-AAB2-C62DB93B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04B-E987-4EF7-8F75-F08C04DF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A87-606A-4804-BF83-2644C33D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4C5-98CE-4D48-B219-0C09167AF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56B-2DFE-4D46-BE13-84B35A94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0787-4208-4F12-A8D2-FFD37780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5EC-E231-430A-B214-0FA11DD0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12C-D6DF-444D-AB59-4D813F0D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3A2A-5EE8-48CD-9CD4-38D0A12A7BEA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CCEA-DBEF-40B4-9E8D-491D801EE4B4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Planejamento de Experimentos:</a:t>
            </a:r>
            <a:br>
              <a:rPr sz="4000"/>
            </a:br>
            <a:br>
              <a:rPr sz="4000"/>
            </a:br>
            <a:r>
              <a:rPr b="1" lang="pt-BR" sz="4000" spc="-1" strike="noStrike">
                <a:solidFill>
                  <a:srgbClr val="0066ff"/>
                </a:solidFill>
                <a:latin typeface="Times New Roman"/>
              </a:rPr>
              <a:t>Confundimento no Fatorial 2</a:t>
            </a:r>
            <a:r>
              <a:rPr b="1" lang="pt-BR" sz="4000" spc="-1" strike="noStrike" baseline="30000">
                <a:solidFill>
                  <a:srgbClr val="0066ff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0020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Sabrina Letícia Couto da Silv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ahoma"/>
              </a:rPr>
              <a:t>Marília Canabarro Zorda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00400" y="2076480"/>
          <a:ext cx="2959200" cy="196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076480"/>
                    <a:ext cx="295920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365720" y="3125880"/>
            <a:ext cx="179280" cy="19044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68880" y="1981080"/>
            <a:ext cx="179640" cy="190800"/>
          </a:xfrm>
          <a:prstGeom prst="flowChartConnector">
            <a:avLst/>
          </a:prstGeom>
          <a:solidFill>
            <a:srgbClr val="66cc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65720" y="1981080"/>
            <a:ext cx="179280" cy="190800"/>
          </a:xfrm>
          <a:prstGeom prst="flowChartConnector">
            <a:avLst/>
          </a:prstGeom>
          <a:solidFill>
            <a:srgbClr val="ff99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68880" y="3125880"/>
            <a:ext cx="179640" cy="190440"/>
          </a:xfrm>
          <a:prstGeom prst="flowChartConnector">
            <a:avLst/>
          </a:prstGeom>
          <a:solidFill>
            <a:srgbClr val="ff99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0" y="1981080"/>
            <a:ext cx="999720" cy="864000"/>
            <a:chOff x="6858000" y="1981080"/>
            <a:chExt cx="999720" cy="864000"/>
          </a:xfrm>
        </p:grpSpPr>
        <p:sp>
          <p:nvSpPr>
            <p:cNvPr id="121" name=""/>
            <p:cNvSpPr/>
            <p:nvPr/>
          </p:nvSpPr>
          <p:spPr>
            <a:xfrm>
              <a:off x="6858000" y="2105280"/>
              <a:ext cx="178560" cy="175680"/>
            </a:xfrm>
            <a:prstGeom prst="flowChartConnector">
              <a:avLst/>
            </a:prstGeom>
            <a:solidFill>
              <a:srgbClr val="66cc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58000" y="2631960"/>
              <a:ext cx="178560" cy="175680"/>
            </a:xfrm>
            <a:prstGeom prst="flowChartConnector">
              <a:avLst/>
            </a:prstGeom>
            <a:solidFill>
              <a:srgbClr val="ff99ff"/>
            </a:solidFill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38360" y="1981080"/>
              <a:ext cx="8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99"/>
                  </a:solidFill>
                  <a:latin typeface="Times New Roman"/>
                </a:rPr>
                <a:t>Bloco 1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38360" y="2507760"/>
              <a:ext cx="8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336699"/>
                  </a:solidFill>
                  <a:latin typeface="Times New Roman"/>
                </a:rPr>
                <a:t>Bloco 2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477800" y="1459080"/>
            <a:ext cx="34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presentação Geométrica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4159080"/>
            <a:ext cx="6629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presentação dos Blocos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(Designação das quatro replicações para 2 blocos)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352680" y="5029200"/>
            <a:ext cx="4992480" cy="1143000"/>
            <a:chOff x="3352680" y="5029200"/>
            <a:chExt cx="4992480" cy="1143000"/>
          </a:xfrm>
        </p:grpSpPr>
        <p:grpSp>
          <p:nvGrpSpPr>
            <p:cNvPr id="128" name=""/>
            <p:cNvGrpSpPr/>
            <p:nvPr/>
          </p:nvGrpSpPr>
          <p:grpSpPr>
            <a:xfrm>
              <a:off x="3352680" y="5133960"/>
              <a:ext cx="2209680" cy="961920"/>
              <a:chOff x="3352680" y="5133960"/>
              <a:chExt cx="2209680" cy="961920"/>
            </a:xfrm>
          </p:grpSpPr>
          <p:graphicFrame>
            <p:nvGraphicFramePr>
              <p:cNvPr id="129" name=""/>
              <p:cNvGraphicFramePr/>
              <p:nvPr/>
            </p:nvGraphicFramePr>
            <p:xfrm>
              <a:off x="3352680" y="5133960"/>
              <a:ext cx="990360" cy="961920"/>
            </p:xfrm>
            <a:graphic>
              <a:graphicData uri="http://schemas.openxmlformats.org/presentationml/2006/ole">
                <p:oleObj progId="Excel.Sheet.12" r:id="rId3" spid="">
                  <p:embed/>
                  <p:pic>
                    <p:nvPicPr>
                      <p:cNvPr id="13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352680" y="5133960"/>
                        <a:ext cx="990360" cy="9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1" name=""/>
              <p:cNvGraphicFramePr/>
              <p:nvPr/>
            </p:nvGraphicFramePr>
            <p:xfrm>
              <a:off x="4571640" y="5133960"/>
              <a:ext cx="990720" cy="96192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13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71640" y="5133960"/>
                        <a:ext cx="990720" cy="9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3" name=""/>
            <p:cNvSpPr/>
            <p:nvPr/>
          </p:nvSpPr>
          <p:spPr>
            <a:xfrm>
              <a:off x="5771880" y="540684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6699"/>
                  </a:solidFill>
                  <a:latin typeface="Arial"/>
                </a:rPr>
                <a:t>Ordem randomizada!</a:t>
              </a:r>
              <a:endParaRPr b="0" lang="en-US" sz="2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8680" y="5029200"/>
              <a:ext cx="75960" cy="11430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1936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476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24080" y="1752480"/>
            <a:ext cx="5624280" cy="4114440"/>
            <a:chOff x="2224080" y="1752480"/>
            <a:chExt cx="5624280" cy="411444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2318040" y="1752480"/>
                  <a:ext cx="5248080" cy="94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A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a-b-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2318040" y="3347280"/>
                  <a:ext cx="5036040" cy="92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B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b-a-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2224080" y="4932720"/>
                  <a:ext cx="5624280" cy="93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feito de AxB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rPr>
                              <m:lit/>
                              <m:nor/>
                            </m:rPr>
                            <m:t xml:space="preserve">ab+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-a-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1600200" y="2090880"/>
          <a:ext cx="7467480" cy="331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90880"/>
                    <a:ext cx="7467480" cy="33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Como construir os blocos?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Método de Geometria Finita (Combinação Linear)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514600" y="2514600"/>
                <a:ext cx="424800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1736640" y="3429000"/>
            <a:ext cx="740736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Onde: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é o nível do i-ésimo fator que aparece na combinação de tratamento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é a constante do i-ésimo fator no efeito a ser confundido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Para o sistema 2</a:t>
            </a:r>
            <a:r>
              <a:rPr b="0" lang="pt-BR" sz="2100" spc="-1" strike="noStrike" baseline="30000">
                <a:solidFill>
                  <a:srgbClr val="336699"/>
                </a:solidFill>
                <a:latin typeface="Arial"/>
              </a:rPr>
              <a:t>k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, tem-se: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0  ou </a:t>
            </a:r>
            <a:r>
              <a:rPr b="0" lang="pt-BR" sz="21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1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e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0 (nível baixo) ou x</a:t>
            </a:r>
            <a:r>
              <a:rPr b="0" lang="pt-BR" sz="2100" spc="-1" strike="noStrike" baseline="-25000">
                <a:solidFill>
                  <a:srgbClr val="336699"/>
                </a:solidFill>
                <a:latin typeface="Arial"/>
              </a:rPr>
              <a:t>i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=1 (nível alto)</a:t>
            </a:r>
            <a:endParaRPr b="0" lang="en-US" sz="21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39000" y="2666880"/>
            <a:ext cx="20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6699"/>
                </a:solidFill>
                <a:latin typeface="Times New Roman"/>
              </a:rPr>
              <a:t>Contraste de Definiçã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37016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Fatorial 2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</a:rPr>
              <a:t>2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: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336699"/>
                </a:solidFill>
                <a:latin typeface="Arial"/>
              </a:rPr>
              <a:t>(Módulo 2)</a:t>
            </a:r>
            <a:endParaRPr b="1" lang="en-US" sz="16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Blocos com confundimento da interação 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AxB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1 e 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A,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B</a:t>
            </a:r>
            <a:r>
              <a:rPr b="1" lang="pt-BR" sz="1900" spc="-1" strike="noStrike">
                <a:solidFill>
                  <a:srgbClr val="336699"/>
                </a:solidFill>
                <a:latin typeface="Arial"/>
                <a:ea typeface="Times New Roman"/>
              </a:rPr>
              <a:t> (cada um com níveis 0 ou 1)</a:t>
            </a: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 combinação (1) é escrita da forma 0,0 na notação (0,1), assim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 = 0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(1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 = 1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 = 1 (módulo 2)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 = 2 = 0 (módulo 2)         a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43400" y="1295280"/>
                <a:ext cx="31240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7848720" cy="1003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510552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48640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79132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6172200"/>
            <a:ext cx="380880" cy="0"/>
          </a:xfrm>
          <a:prstGeom prst="line">
            <a:avLst/>
          </a:prstGeom>
          <a:ln cap="sq" w="1260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53080" y="4876920"/>
            <a:ext cx="1997280" cy="1313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efefe"/>
              </a:gs>
            </a:gsLst>
            <a:lin ang="5400000"/>
          </a:gra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Times New Roman"/>
              </a:rPr>
              <a:t>Valores iguais de L definem os componentes dos blocos!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37016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66ff"/>
                </a:solidFill>
                <a:uFillTx/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S/ Confundimento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           - C/ Confundimento de </a:t>
            </a:r>
            <a:r>
              <a:rPr b="1" lang="pt-BR" sz="2100" spc="-1" strike="noStrike">
                <a:solidFill>
                  <a:srgbClr val="0066ff"/>
                </a:solidFill>
                <a:latin typeface="Arial"/>
              </a:rPr>
              <a:t>AxB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76520" y="2895480"/>
          <a:ext cx="3124080" cy="27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95480"/>
                    <a:ext cx="312408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15000" y="2895480"/>
          <a:ext cx="2971800" cy="254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895480"/>
                    <a:ext cx="2971800" cy="25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479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Arial"/>
                <a:ea typeface="Times New Roman"/>
              </a:rPr>
              <a:t>(b) Fatorial 2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3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7315200" cy="2771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81080" y="4697280"/>
                <a:ext cx="6553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eito de A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-b+ab-c+ac-bc+ab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30052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057400" y="5688000"/>
                <a:ext cx="6019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eito de ABC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+b+c+abc-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-b-ac-b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Fatorial 2</a:t>
            </a:r>
            <a:r>
              <a:rPr b="1" lang="pt-BR" sz="2400" spc="-1" strike="noStrike" baseline="30000">
                <a:solidFill>
                  <a:srgbClr val="336699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Blocos com confundimento da interação 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AxBxC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 </a:t>
            </a:r>
            <a:r>
              <a:rPr b="0" lang="pt-BR" sz="1900" spc="-1" strike="noStrike">
                <a:solidFill>
                  <a:srgbClr val="336699"/>
                </a:solidFill>
                <a:latin typeface="Symbol"/>
                <a:ea typeface="Symbol"/>
              </a:rPr>
              <a:t>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 = 1 e 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1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A,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2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= B e x</a:t>
            </a:r>
            <a:r>
              <a:rPr b="0" lang="pt-BR" sz="1900" spc="-1" strike="noStrike" baseline="-25000">
                <a:solidFill>
                  <a:srgbClr val="336699"/>
                </a:solidFill>
                <a:latin typeface="Arial"/>
              </a:rPr>
              <a:t>3</a:t>
            </a:r>
            <a:r>
              <a:rPr b="0" lang="pt-BR" sz="1900" spc="-1" strike="noStrike">
                <a:solidFill>
                  <a:srgbClr val="336699"/>
                </a:solidFill>
                <a:latin typeface="Arial"/>
              </a:rPr>
              <a:t> = C</a:t>
            </a:r>
            <a:r>
              <a:rPr b="1" lang="pt-BR" sz="1900" spc="-1" strike="noStrike">
                <a:solidFill>
                  <a:srgbClr val="336699"/>
                </a:solidFill>
                <a:latin typeface="Arial"/>
                <a:ea typeface="Times New Roman"/>
              </a:rPr>
              <a:t> (cada um com níveis 0 ou 1)</a:t>
            </a: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 </a:t>
            </a: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A combinação (1) é escrita da forma 0,0,0 na notação (0,1), assim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+1(0) = 0 (módulo 2)   (1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+ 1(0) = 1 (módulo 2)  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+ 1(0) = 1 (módulo 2)  b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24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905280" y="1287360"/>
                <a:ext cx="4095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209680" y="2498760"/>
            <a:ext cx="8458200" cy="1844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419720" y="2468520"/>
            <a:ext cx="929628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674720" y="15238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+1(0) = 2= 0 (módulo 2)  ab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0)+1(1) = 1 (módulo 2)  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0)+1(1) = 2= 0 (módulo 2)  a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0)+1(1)+1(1) = 2= 0 (módulo 2)  b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L=1(1)+1(1)+1(1) = 3= 1 (módulo 2)  abc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BLOCO 1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 (1), AB, AC e BC (valores ZERO na soma)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BLOCO 2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Times New Roman"/>
              </a:rPr>
              <a:t> A, B, C e ABC (valores UM na soma)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 u="sng">
                <a:solidFill>
                  <a:srgbClr val="0066ff"/>
                </a:solidFill>
                <a:uFillTx/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S/ Confundimento: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- C/ Confundimento de </a:t>
            </a:r>
            <a:r>
              <a:rPr b="1" lang="pt-BR" sz="2100" spc="-1" strike="noStrike">
                <a:solidFill>
                  <a:srgbClr val="0066ff"/>
                </a:solidFill>
                <a:latin typeface="Arial"/>
              </a:rPr>
              <a:t>AxBxC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905120" y="2438280"/>
          <a:ext cx="276372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2763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638680" y="2448000"/>
          <a:ext cx="2762280" cy="3724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448000"/>
                    <a:ext cx="27622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Introduç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4360" y="1905120"/>
            <a:ext cx="71643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Há situações em que é impossível realizar todas as repetições num experimento fatorial em um único bloco;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-332640">
              <a:lnSpc>
                <a:spcPct val="13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</a:rPr>
              <a:t>CONFUNDIMENTO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é a técnica empregada na organização de delineamentos para experimentos fatoriais, possibilitando obter maior precisão nas comparações mais importantes, pelo sacrifício de outras, menos relevant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326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11592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69800" y="1268280"/>
            <a:ext cx="7522920" cy="26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 u="sng">
                <a:solidFill>
                  <a:srgbClr val="0066ff"/>
                </a:solidFill>
                <a:uFillTx/>
                <a:latin typeface="Arial"/>
              </a:rPr>
              <a:t>Estimativa do Erro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</a:rPr>
              <a:t>Quando o n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° de fatores é pequeno (k = 2 ou 3), é usual replicar o experimento a fim de obter uma estimativa para o erro.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	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Por exemplo, suponha que um Fatorial 2</a:t>
            </a:r>
            <a:r>
              <a:rPr b="0" lang="pt-BR" sz="2100" spc="-1" strike="noStrike" baseline="30000">
                <a:solidFill>
                  <a:srgbClr val="336699"/>
                </a:solidFill>
                <a:latin typeface="Arial"/>
                <a:ea typeface="Arial"/>
              </a:rPr>
              <a:t>3</a:t>
            </a:r>
            <a:r>
              <a:rPr b="0" lang="pt-BR" sz="2100" spc="-1" strike="noStrike">
                <a:solidFill>
                  <a:srgbClr val="336699"/>
                </a:solidFill>
                <a:latin typeface="Arial"/>
                <a:ea typeface="Arial"/>
              </a:rPr>
              <a:t> seja realizado em 2 blocos com ABC confundida e o experimentador decide replicar o experimento em 4 tempos.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4365720"/>
            <a:ext cx="766764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240" y="189000"/>
            <a:ext cx="81694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267920"/>
            <a:ext cx="380988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ff"/>
                </a:solidFill>
                <a:latin typeface="Arial"/>
              </a:rPr>
              <a:t>Tabela de ANOVA</a:t>
            </a:r>
            <a:endParaRPr b="1" lang="en-US" sz="25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124000" y="2492280"/>
            <a:ext cx="6768720" cy="3097080"/>
            <a:chOff x="2124000" y="2492280"/>
            <a:chExt cx="6768720" cy="3097080"/>
          </a:xfrm>
        </p:grpSpPr>
        <p:pic>
          <p:nvPicPr>
            <p:cNvPr id="191" name="" descr=""/>
            <p:cNvPicPr/>
            <p:nvPr/>
          </p:nvPicPr>
          <p:blipFill>
            <a:blip r:embed="rId1"/>
            <a:stretch/>
          </p:blipFill>
          <p:spPr>
            <a:xfrm>
              <a:off x="2124000" y="2492280"/>
              <a:ext cx="451188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6459840" y="2812320"/>
              <a:ext cx="75600" cy="636480"/>
            </a:xfrm>
            <a:custGeom>
              <a:avLst/>
              <a:gdLst>
                <a:gd name="textAreaLeft" fmla="*/ 48240 w 75600"/>
                <a:gd name="textAreaRight" fmla="*/ 75960 w 75600"/>
                <a:gd name="textAreaTop" fmla="*/ 16560 h 636480"/>
                <a:gd name="textAreaBottom" fmla="*/ 619920 h 63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57840" y="2796480"/>
              <a:ext cx="163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BLOCOS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2r – 1= 2x4 - 1=6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6382800" y="5190120"/>
              <a:ext cx="608040" cy="13680"/>
            </a:xfrm>
            <a:prstGeom prst="line">
              <a:avLst/>
            </a:prstGeom>
            <a:ln cap="sq" w="12600">
              <a:solidFill>
                <a:srgbClr val="0066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15960" y="4726080"/>
              <a:ext cx="1976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ERRO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336699"/>
                  </a:solidFill>
                  <a:latin typeface="Times New Roman"/>
                </a:rPr>
                <a:t>6 (r – 1) = 6x3=18</a:t>
              </a:r>
              <a:endParaRPr b="0" lang="en-US" sz="16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26680" y="5030280"/>
              <a:ext cx="456120" cy="319680"/>
            </a:xfrm>
            <a:prstGeom prst="ellipse">
              <a:avLst/>
            </a:pr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49280" y="2717280"/>
              <a:ext cx="533160" cy="796320"/>
            </a:xfrm>
            <a:prstGeom prst="ellipse">
              <a:avLst/>
            </a:prstGeom>
            <a:noFill/>
            <a:ln cap="sq"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619280" y="1531800"/>
            <a:ext cx="7197840" cy="456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336699"/>
                </a:solidFill>
                <a:uFillTx/>
                <a:latin typeface="Arial"/>
              </a:rPr>
              <a:t>Exemplo</a:t>
            </a: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Uma indústria de refrigerantes está estudando o efeito da porcentagem de gaseificação (Fator A), pressão de operação no enchimento (Fator B) e velocidade da esteira (Fator C), no volume de bebida gaseificada embalada em cada garrafa. Um experimento fatorial com dois níveis de gaseificação, pressão e velocidade, com 2 repetições foi realizad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Na organização do experimento foram definidos blocos de 4 unidades, confundindo a interação ABC nas dua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155240" y="189000"/>
            <a:ext cx="81694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993080" cy="7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980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336699"/>
                </a:solidFill>
                <a:latin typeface="Arial"/>
              </a:rPr>
              <a:t>Os dados obtidos foram:</a:t>
            </a:r>
            <a:endParaRPr b="1" lang="en-US" sz="23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63640" y="2719440"/>
            <a:ext cx="69120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189000"/>
            <a:ext cx="7885080" cy="60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 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76360" y="458064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** significativo a 1%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008000" y="1197000"/>
            <a:ext cx="8388360" cy="3673440"/>
            <a:chOff x="1008000" y="1197000"/>
            <a:chExt cx="8388360" cy="367344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1008000" y="1197000"/>
              <a:ext cx="8388360" cy="36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8317080" y="2133360"/>
              <a:ext cx="826920" cy="1081080"/>
            </a:xfrm>
            <a:prstGeom prst="ellipse">
              <a:avLst/>
            </a:prstGeom>
            <a:noFill/>
            <a:ln cap="sq" w="284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449360" y="5089680"/>
            <a:ext cx="729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Repetições= [62 + 102]/8 – (16)2/16= 1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Blocos = [22 + 42 + 42 + 62]/4 - (16)2/16 = 2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Blocos dentro de Repetições = SQBlocos – SQRepetiçõ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1228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2.00 – 1.00 = 1.00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1. Confundiment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4720" y="1523520"/>
            <a:ext cx="7088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a) Definiçã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Quando 2 ou mais efeitos não podem ser estimados independentemente, diz-se que estão confundid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36699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Técnica para arranjar um fatorial completo em blocos, onde o tamanho dos blocos é menor do que o n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° de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tratament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b) Tipos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Completo (total)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o mesmo efeito fatorial é confundido  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      em todas a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Parcial: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efeitos fatoriais diferentes são confundidos 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  nas diferentes repetiçõe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74360" y="1676160"/>
            <a:ext cx="71643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c) Vantagens no us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Redução do erro experimental, com uso de blocos homogêne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Eliminação de interações de ordem superior que, em geral, não tem significado prátic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66ff"/>
                </a:solidFill>
                <a:latin typeface="Arial"/>
                <a:ea typeface="Times New Roman"/>
              </a:rPr>
              <a:t>d) Desvantagem no us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-281160" algn="just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Maior complexidade nos cálculos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1. Confundimento</a:t>
            </a:r>
            <a:endParaRPr b="0" lang="en-US" sz="4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2. Precis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9047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maior precisão decorre, da formação de blocos menores, com 1/2, 1/3 ou 1/4 apenas do n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Arial"/>
              </a:rPr>
              <a:t>°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de combinações de tratamentos, de um bloco complet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formação desses blocos incompletos, implica no confundimento através das diferenças entre blocos, de certos efeitos fatoriais, geralmente as interações de ordem mais elevada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74360" y="1752120"/>
            <a:ext cx="67834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A escolha da comparação, que deverá ser sacrificada, depende de  considerações de ordem prática.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Em alguns experimentos, a medição da interação é o objetivo principal, existindo pouco interesse na medição dos efeitos principais, portanto, nesses casos, um ou mais efeitos principais poderão ser confundidos.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2. Precisã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 u="sng">
                <a:solidFill>
                  <a:srgbClr val="336699"/>
                </a:solidFill>
                <a:uFillTx/>
                <a:latin typeface="Times New Roman"/>
              </a:rPr>
              <a:t>3. Confundimento no Fatorial 2</a:t>
            </a:r>
            <a:r>
              <a:rPr b="1" lang="pt-BR" sz="4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- Esquemas de confundimento mais simples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- Blocos Incompletos de tamanhos 2, 4, 8, ..., 2</a:t>
            </a:r>
            <a:r>
              <a:rPr b="0" lang="pt-BR" sz="2200" spc="-1" strike="noStrike" baseline="45000">
                <a:solidFill>
                  <a:srgbClr val="336699"/>
                </a:solidFill>
                <a:latin typeface="Arial"/>
                <a:ea typeface="Times New Roman"/>
              </a:rPr>
              <a:t>p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(p&lt;k)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3340080"/>
            <a:ext cx="6302160" cy="19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3.1. Confundimento no Fatorial 2</a:t>
            </a:r>
            <a:r>
              <a:rPr b="1" lang="pt-BR" sz="2400" spc="-1" strike="noStrike" u="sng" baseline="30000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k </a:t>
            </a:r>
            <a:r>
              <a:rPr b="1" lang="pt-BR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em 2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2. Confundimento no Fatorial 2</a:t>
            </a:r>
            <a:r>
              <a:rPr b="1" lang="pt-BR" sz="2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m 4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3.3. Confundimento no Fatorial 2</a:t>
            </a:r>
            <a:r>
              <a:rPr b="1" lang="pt-BR" sz="2400" spc="-1" strike="noStrike" baseline="30000">
                <a:solidFill>
                  <a:srgbClr val="0066ff"/>
                </a:solidFill>
                <a:latin typeface="Times New Roman"/>
                <a:ea typeface="Times New Roman"/>
              </a:rPr>
              <a:t>k 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em 2</a:t>
            </a:r>
            <a:r>
              <a:rPr b="1" lang="pt-BR" sz="2400" spc="-1" strike="noStrike" baseline="50000">
                <a:solidFill>
                  <a:srgbClr val="0066ff"/>
                </a:solidFill>
                <a:latin typeface="Times New Roman"/>
                <a:ea typeface="Times New Roman"/>
              </a:rPr>
              <a:t>p</a:t>
            </a:r>
            <a:r>
              <a:rPr b="1" lang="pt-BR" sz="2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bloc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3520" y="175212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66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ff"/>
                </a:solidFill>
                <a:latin typeface="Arial"/>
                <a:ea typeface="Times New Roman"/>
              </a:rPr>
              <a:t>Fatorial 2</a:t>
            </a:r>
            <a:r>
              <a:rPr b="1" lang="pt-BR" sz="2800" spc="-1" strike="noStrike" baseline="30000">
                <a:solidFill>
                  <a:srgbClr val="0066ff"/>
                </a:solidFill>
                <a:latin typeface="Arial"/>
                <a:ea typeface="Times New Roman"/>
              </a:rPr>
              <a:t>2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SITUAÇÃO PROBLEMA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Suponha que tenhamos um delineamento Fatorial 2</a:t>
            </a:r>
            <a:r>
              <a:rPr b="0" lang="pt-BR" sz="2200" spc="-1" strike="noStrike" baseline="30000">
                <a:solidFill>
                  <a:srgbClr val="336699"/>
                </a:solidFill>
                <a:latin typeface="Arial"/>
                <a:ea typeface="Times New Roman"/>
              </a:rPr>
              <a:t>2</a:t>
            </a: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 com 1 repetição e cada combinação de tratamentos (4) requer uma quantidade de matéria-prima, mas cada lote de matéria-prima só é suficiente para testar 2 combinações de tratamentos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440" y="1600200"/>
            <a:ext cx="746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  <a:ea typeface="Times New Roman"/>
              </a:rPr>
              <a:t>2 lotes serão necessários para realizar o experimento;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550"/>
              </a:spcBef>
              <a:buClr>
                <a:srgbClr val="3366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6699"/>
                </a:solidFill>
                <a:latin typeface="Arial"/>
              </a:rPr>
              <a:t>Se os lotes de matéria-prima forem considerados como blocos, devemos classificar 2 das 4 combinações de tratamentos como pertencentes a cada bloco.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6699"/>
                </a:solidFill>
                <a:latin typeface="Arial"/>
              </a:rPr>
              <a:t>EXEMPLO:</a:t>
            </a:r>
            <a:endParaRPr b="1" lang="en-US" sz="2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3.1. Confundimento no Fatorial 2</a:t>
            </a:r>
            <a:r>
              <a:rPr b="1" lang="pt-BR" sz="3000" spc="-1" strike="noStrike" u="sng" baseline="30000">
                <a:solidFill>
                  <a:srgbClr val="336699"/>
                </a:solidFill>
                <a:uFillTx/>
                <a:latin typeface="Times New Roman"/>
              </a:rPr>
              <a:t>k </a:t>
            </a:r>
            <a:r>
              <a:rPr b="1" lang="pt-BR" sz="3000" spc="-1" strike="noStrike" u="sng">
                <a:solidFill>
                  <a:srgbClr val="336699"/>
                </a:solidFill>
                <a:uFillTx/>
                <a:latin typeface="Times New Roman"/>
              </a:rPr>
              <a:t>em 2 Blocos</a:t>
            </a:r>
            <a:endParaRPr b="0" lang="en-US" sz="30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733920" y="4648320"/>
          <a:ext cx="251460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4648320"/>
                    <a:ext cx="25146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00:27Z</dcterms:created>
  <dc:creator>Sabrina Letícia Couto da Silva</dc:creator>
  <dc:description/>
  <dc:language>en-US</dc:language>
  <cp:lastModifiedBy>Sabrina Letícia Couto da Silva</cp:lastModifiedBy>
  <dcterms:modified xsi:type="dcterms:W3CDTF">2002-09-23T06:45:31Z</dcterms:modified>
  <cp:revision>9</cp:revision>
  <dc:subject/>
  <dc:title>Planejamento de Experimentos:  Confundimento no Fatorial 2k</dc:title>
</cp:coreProperties>
</file>