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AFD-4AB0-4CCC-85DF-49C2B737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9E63-B362-47E4-B070-C9B7DEA1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7768-F429-405E-BD6E-14B0FE15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C481-CEE6-4025-83A5-69BD821D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C654-332D-49A7-A3E5-9BDEF16D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647B-9F07-4D12-AFEC-D8D5CF92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62A-6ED3-4678-842A-12E50A0A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458-C3F4-4869-AE96-94219405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0D77-E305-4DDE-BB2E-90AE6ECE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9029-95A0-4A72-8913-B9F668A7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E2C9-645A-4B3B-AC3D-1C065C5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9E4-DEFE-4CE5-9B7C-BCC0B32C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ACA-AC62-4C26-843D-1991866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832-6631-43B6-8E96-E5DC2DC7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167C-89E5-4249-A00D-455AD5CB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1269-BCF2-4524-9BD8-F772B980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51FE-4FB0-4EC8-984E-A9FABB66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355-5D1C-4AC6-ABD6-D4B2B323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ECA7-8C87-4210-8A41-F1DB5853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ECB-AA67-4F4E-9F4E-F0CE5950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56E-E038-4A4E-9760-8A45BABD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098-8D30-43EF-95B8-12D5C98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448-7F1F-4ADF-8D31-FFC5ABF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5CA-0C1E-4E39-829E-1C08F1B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BFB3-79F2-4A6C-86EB-6F1D0043ECEE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B09-0E6D-4EA9-8DA2-C227C39BEFD1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br>
              <a:rPr sz="4000"/>
            </a:br>
            <a:br>
              <a:rPr sz="4000"/>
            </a:br>
            <a:r>
              <a:rPr b="1" lang="pt-BR" sz="4000" spc="-1" strike="noStrike" u="sng">
                <a:solidFill>
                  <a:srgbClr val="c489ff"/>
                </a:solidFill>
                <a:uFillTx/>
                <a:latin typeface="Times New Roman"/>
              </a:rPr>
              <a:t>Exemplo 8.2 feito no SA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512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br>
              <a:rPr sz="4000"/>
            </a:br>
            <a:r>
              <a:rPr b="1" lang="pt-BR" sz="2300" spc="-1" strike="noStrike">
                <a:solidFill>
                  <a:srgbClr val="336699"/>
                </a:solidFill>
                <a:latin typeface="Times New Roman"/>
              </a:rPr>
              <a:t>(Montgomery, 4a. Edição – págs. 361- 363)</a:t>
            </a:r>
            <a:endParaRPr b="0" lang="en-US" sz="23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440" y="1523880"/>
            <a:ext cx="7316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idere a situação: (exemplo 7.2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produto químico é produzido em um recipiente pressurizad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m experimento fatorial foi realizado numa planta piloto para estudar os fatores de influência na </a:t>
            </a:r>
            <a:r>
              <a:rPr b="1" lang="pt-BR" sz="2400" spc="-1" strike="noStrike">
                <a:solidFill>
                  <a:srgbClr val="0066ff"/>
                </a:solidFill>
                <a:latin typeface="Arial"/>
              </a:rPr>
              <a:t>taxa de filtração desse produto (var. resposta)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Os 4 fatores são: temperatura (A), pressão (B), conc. de formaldeído ( C) e taxa de agitação (D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ada fator tem 2 níveis. Esse experimento será utilizado para ilustrar as idéias d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bloquea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1" i="1" lang="pt-BR" sz="2400" spc="-1" strike="noStrike">
                <a:solidFill>
                  <a:srgbClr val="336699"/>
                </a:solidFill>
                <a:latin typeface="Arial"/>
              </a:rPr>
              <a:t>confundimento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em um experimento sem repetição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76520" y="1768320"/>
          <a:ext cx="7238880" cy="488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68320"/>
                    <a:ext cx="7238880" cy="48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520" y="11430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Times New Roman"/>
              </a:rPr>
              <a:t>Dados do exemplo 7.2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09480" y="990720"/>
          <a:ext cx="83822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90720"/>
                    <a:ext cx="83822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8458200" y="5335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562720"/>
            <a:ext cx="4827240" cy="76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1: (1), ab, ac, bc, ad, bd, cd, abc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Times New Roman"/>
              </a:rPr>
              <a:t>Bloco 2: a, b, c, d, abc, bcd, acd, abd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52480" y="14475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rão efetuadas 2 modificações no experimento original (exemplo 7.2)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Primeir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Suponha que as 16 combinações de tratamentos não podem ser todas testadas utilizando o mesmo lote de matéria-prima. O experimentador só pode testar 8 combinações por lote. Sendo assim, um delineamento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4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 em 2 blocos (lotes como blocos) parece adequ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0160" y="1447560"/>
            <a:ext cx="73166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</a:rPr>
              <a:t>Segunda Modifica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Iremos introduzir um efeito de bloco, de modo que essa utilidade do bloqueamento poderá ser demonstr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5880"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Vamos supor que ao selecionar 2 lotes de matéria-prima para realizar o experimento um deles é de qualidade muito inferior e como resultado, os tratamentos submetidos a esse lote produzem uma resposta (taxa de filtração) inferior em 20 unidades. O lote de qualidade inferior será o BLOCO1 (Bloco Principal) e o de melhor qualidade será o BLOCO2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98400" y="1523520"/>
            <a:ext cx="6249960" cy="3812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Blocos formad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Exemplo 8.2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3048120" cy="2676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23880" y="5029200"/>
            <a:ext cx="7620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Por exemplo, a resposta original da testemunha (1) era 45, mas como está no Bloco 1, a resposta resultante após o bloqueamento (efeito de bloco) será dada por: </a:t>
            </a:r>
            <a:r>
              <a:rPr b="1" lang="pt-BR" sz="2000" spc="-1" strike="noStrike">
                <a:solidFill>
                  <a:srgbClr val="336699"/>
                </a:solidFill>
                <a:latin typeface="Times New Roman"/>
              </a:rPr>
              <a:t>(1) = 45 – 20 = 25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Segue da mesma forma para os demais tratamentos do Bloco 1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00:27Z</dcterms:created>
  <dc:creator>Sabrina Letícia Couto da Silva</dc:creator>
  <dc:description/>
  <dc:language>en-US</dc:language>
  <cp:lastModifiedBy>Sabrina Letícia Couto da Silva</cp:lastModifiedBy>
  <dcterms:modified xsi:type="dcterms:W3CDTF">2002-09-28T03:54:51Z</dcterms:modified>
  <cp:revision>10</cp:revision>
  <dc:subject/>
  <dc:title>Planejamento de Experimentos:  Confundimento no Fatorial 2k</dc:title>
</cp:coreProperties>
</file>